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DBC-ECA1-4D2C-AD81-8C2EFFCE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675-969C-4682-9E40-7640C8F4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A4C-DE28-46B2-B0CC-3B233B08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694-7D50-44C6-96AA-D65EE6D6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6C2-38AC-4A5E-989D-96DF5B34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BB8-930D-455C-9A93-39F4E7A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9C5-FD09-4866-8FC5-9CDC3DA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25B-7B97-4CFC-ABCD-60E6E93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B59-B0FA-4046-84DB-FA8FC2B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9F1-3415-4939-83AF-567BEE2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52F-3EEC-4E94-AFC0-39E3D65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4B3-36DB-4A7B-AB49-5B6BC22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2CE-D7FC-4AC6-8CF9-F2FD14C7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  <a:ea typeface="굴림"/>
              </a:rPr>
              <a:t>A Distributed Algorithm for Minimum-Weight Spanning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8280" y="2971440"/>
            <a:ext cx="76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. G. Gallager, P.A. Humblet, and P. M. Sp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M, Transactions on Programming Language and systems,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3040" y="47401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anan Shpun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61920" y="21812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fragment of an MST, let e be a minimum-weight outgoing edge of the fragment. Then joining e and its adjacent non-fragment node to the fragment yields another fragment of an M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624640" y="3581280"/>
            <a:ext cx="2147760" cy="2667240"/>
            <a:chOff x="5624640" y="3581280"/>
            <a:chExt cx="2147760" cy="2667240"/>
          </a:xfrm>
        </p:grpSpPr>
        <p:grpSp>
          <p:nvGrpSpPr>
            <p:cNvPr id="253" name=""/>
            <p:cNvGrpSpPr/>
            <p:nvPr/>
          </p:nvGrpSpPr>
          <p:grpSpPr>
            <a:xfrm>
              <a:off x="5910480" y="3581280"/>
              <a:ext cx="1861920" cy="2667240"/>
              <a:chOff x="5910480" y="3581280"/>
              <a:chExt cx="1861920" cy="2667240"/>
            </a:xfrm>
          </p:grpSpPr>
          <p:sp>
            <p:nvSpPr>
              <p:cNvPr id="254" name=""/>
              <p:cNvSpPr/>
              <p:nvPr/>
            </p:nvSpPr>
            <p:spPr>
              <a:xfrm>
                <a:off x="7543800" y="5014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96280" y="4800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77160" y="35812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58040" y="54100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34360" y="4648320"/>
                <a:ext cx="30492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67680" y="5943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62760" y="434340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10480" y="5334120"/>
                <a:ext cx="30456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2" name=""/>
              <p:cNvCxnSpPr>
                <a:stCxn id="260" idx="7"/>
                <a:endCxn id="256" idx="3"/>
              </p:cNvCxnSpPr>
              <p:nvPr/>
            </p:nvCxnSpPr>
            <p:spPr>
              <a:xfrm flipV="1">
                <a:off x="6322680" y="3841560"/>
                <a:ext cx="699480" cy="5464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63" name=""/>
              <p:cNvCxnSpPr>
                <a:stCxn id="255" idx="5"/>
                <a:endCxn id="257" idx="1"/>
              </p:cNvCxnSpPr>
              <p:nvPr/>
            </p:nvCxnSpPr>
            <p:spPr>
              <a:xfrm>
                <a:off x="6856200" y="5060880"/>
                <a:ext cx="546480" cy="394560"/>
              </a:xfrm>
              <a:prstGeom prst="straightConnector1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cxnSp>
          <p:grpSp>
            <p:nvGrpSpPr>
              <p:cNvPr id="264" name=""/>
              <p:cNvGrpSpPr/>
              <p:nvPr/>
            </p:nvGrpSpPr>
            <p:grpSpPr>
              <a:xfrm>
                <a:off x="6062400" y="3841560"/>
                <a:ext cx="1524240" cy="2146320"/>
                <a:chOff x="6062400" y="3841560"/>
                <a:chExt cx="1524240" cy="2146320"/>
              </a:xfrm>
            </p:grpSpPr>
            <p:cxnSp>
              <p:nvCxnSpPr>
                <p:cNvPr id="265" name=""/>
                <p:cNvCxnSpPr>
                  <a:stCxn id="255" idx="6"/>
                  <a:endCxn id="258" idx="2"/>
                </p:cNvCxnSpPr>
                <p:nvPr/>
              </p:nvCxnSpPr>
              <p:spPr>
                <a:xfrm flipV="1">
                  <a:off x="6900840" y="4799880"/>
                  <a:ext cx="534240" cy="153000"/>
                </a:xfrm>
                <a:prstGeom prst="straightConnector1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</p:cxnSp>
            <p:cxnSp>
              <p:nvCxnSpPr>
                <p:cNvPr id="266" name=""/>
                <p:cNvCxnSpPr>
                  <a:stCxn id="258" idx="0"/>
                  <a:endCxn id="256" idx="5"/>
                </p:cNvCxnSpPr>
                <p:nvPr/>
              </p:nvCxnSpPr>
              <p:spPr>
                <a:xfrm flipH="1" flipV="1">
                  <a:off x="7237080" y="3841560"/>
                  <a:ext cx="349920" cy="8071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67" name=""/>
                <p:cNvCxnSpPr>
                  <a:stCxn id="255" idx="3"/>
                  <a:endCxn id="261" idx="7"/>
                </p:cNvCxnSpPr>
                <p:nvPr/>
              </p:nvCxnSpPr>
              <p:spPr>
                <a:xfrm flipH="1">
                  <a:off x="6170040" y="5060880"/>
                  <a:ext cx="470520" cy="31788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68" name=""/>
                <p:cNvCxnSpPr>
                  <a:stCxn id="257" idx="0"/>
                  <a:endCxn id="258" idx="4"/>
                </p:cNvCxnSpPr>
                <p:nvPr/>
              </p:nvCxnSpPr>
              <p:spPr>
                <a:xfrm flipV="1">
                  <a:off x="7510320" y="4952520"/>
                  <a:ext cx="76680" cy="4579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69" name=""/>
                <p:cNvCxnSpPr>
                  <a:stCxn id="257" idx="3"/>
                  <a:endCxn id="259" idx="7"/>
                </p:cNvCxnSpPr>
                <p:nvPr/>
              </p:nvCxnSpPr>
              <p:spPr>
                <a:xfrm flipH="1">
                  <a:off x="6627600" y="5670360"/>
                  <a:ext cx="775440" cy="31788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70" name=""/>
                <p:cNvCxnSpPr>
                  <a:stCxn id="261" idx="0"/>
                  <a:endCxn id="260" idx="4"/>
                </p:cNvCxnSpPr>
                <p:nvPr/>
              </p:nvCxnSpPr>
              <p:spPr>
                <a:xfrm flipV="1">
                  <a:off x="6062400" y="4647600"/>
                  <a:ext cx="153000" cy="6865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</p:grpSp>
          <p:sp>
            <p:nvSpPr>
              <p:cNvPr id="271" name=""/>
              <p:cNvSpPr/>
              <p:nvPr/>
            </p:nvSpPr>
            <p:spPr>
              <a:xfrm>
                <a:off x="5910480" y="48006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43640" y="3871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19960" y="397656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53480" y="45720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77160" y="57769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53280" y="513396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77160" y="518148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624640" y="4076640"/>
              <a:ext cx="1511280" cy="1790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85800" y="3733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61920" y="431496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 is not in MST, but some e’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4757760"/>
            <a:ext cx="228600" cy="22860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867280" y="3581280"/>
            <a:ext cx="914400" cy="381240"/>
            <a:chOff x="5867280" y="3581280"/>
            <a:chExt cx="914400" cy="381240"/>
          </a:xfrm>
        </p:grpSpPr>
        <p:sp>
          <p:nvSpPr>
            <p:cNvPr id="283" name=""/>
            <p:cNvSpPr/>
            <p:nvPr/>
          </p:nvSpPr>
          <p:spPr>
            <a:xfrm>
              <a:off x="5867280" y="35812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2200" y="372096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56"/>
                  </a:moveTo>
                  <a:cubicBezTo>
                    <a:pt x="64" y="28"/>
                    <a:pt x="128" y="0"/>
                    <a:pt x="192" y="8"/>
                  </a:cubicBezTo>
                  <a:cubicBezTo>
                    <a:pt x="256" y="16"/>
                    <a:pt x="320" y="60"/>
                    <a:pt x="384" y="1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315200" y="4038480"/>
            <a:ext cx="1371600" cy="685800"/>
            <a:chOff x="7315200" y="4038480"/>
            <a:chExt cx="1371600" cy="685800"/>
          </a:xfrm>
        </p:grpSpPr>
        <p:sp>
          <p:nvSpPr>
            <p:cNvPr id="286" name=""/>
            <p:cNvSpPr/>
            <p:nvPr/>
          </p:nvSpPr>
          <p:spPr>
            <a:xfrm>
              <a:off x="8305920" y="4038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42670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0"/>
                  </a:moveTo>
                  <a:cubicBezTo>
                    <a:pt x="460" y="0"/>
                    <a:pt x="296" y="0"/>
                    <a:pt x="192" y="48"/>
                  </a:cubicBezTo>
                  <a:cubicBezTo>
                    <a:pt x="88" y="96"/>
                    <a:pt x="32" y="248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7315200" y="4038480"/>
            <a:ext cx="1371600" cy="685800"/>
            <a:chOff x="7315200" y="4038480"/>
            <a:chExt cx="1371600" cy="685800"/>
          </a:xfrm>
        </p:grpSpPr>
        <p:sp>
          <p:nvSpPr>
            <p:cNvPr id="289" name=""/>
            <p:cNvSpPr/>
            <p:nvPr/>
          </p:nvSpPr>
          <p:spPr>
            <a:xfrm>
              <a:off x="8305920" y="4038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42670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0"/>
                  </a:moveTo>
                  <a:cubicBezTo>
                    <a:pt x="460" y="0"/>
                    <a:pt x="296" y="0"/>
                    <a:pt x="192" y="48"/>
                  </a:cubicBezTo>
                  <a:cubicBezTo>
                    <a:pt x="88" y="96"/>
                    <a:pt x="32" y="248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1920" y="21812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fragment of an MST, let e be a minimum-weight outgoing edge of the fragment. Then joining e and its adjacent non-fragment node to the fragment yields another fragment of an M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48006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77160" y="358128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5804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34360" y="46483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67320" y="59436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62760" y="43434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10120" y="5334120"/>
            <a:ext cx="30492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0" idx="7"/>
            <a:endCxn id="296" idx="3"/>
          </p:cNvCxnSpPr>
          <p:nvPr/>
        </p:nvCxnSpPr>
        <p:spPr>
          <a:xfrm flipV="1">
            <a:off x="6323040" y="3841560"/>
            <a:ext cx="699120" cy="5464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03" name=""/>
          <p:cNvCxnSpPr>
            <a:stCxn id="295" idx="5"/>
            <a:endCxn id="297" idx="1"/>
          </p:cNvCxnSpPr>
          <p:nvPr/>
        </p:nvCxnSpPr>
        <p:spPr>
          <a:xfrm>
            <a:off x="6856200" y="5060880"/>
            <a:ext cx="546480" cy="3945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04" name=""/>
          <p:cNvCxnSpPr/>
          <p:nvPr/>
        </p:nvCxnSpPr>
        <p:spPr>
          <a:xfrm flipV="1">
            <a:off x="6900840" y="4799880"/>
            <a:ext cx="534240" cy="15300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05" name=""/>
          <p:cNvCxnSpPr/>
          <p:nvPr/>
        </p:nvCxnSpPr>
        <p:spPr>
          <a:xfrm flipH="1" flipV="1">
            <a:off x="7237080" y="3841560"/>
            <a:ext cx="349920" cy="8071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06" name=""/>
          <p:cNvCxnSpPr/>
          <p:nvPr/>
        </p:nvCxnSpPr>
        <p:spPr>
          <a:xfrm flipH="1">
            <a:off x="617004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07" name=""/>
          <p:cNvCxnSpPr/>
          <p:nvPr/>
        </p:nvCxnSpPr>
        <p:spPr>
          <a:xfrm flipV="1">
            <a:off x="751032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08" name=""/>
          <p:cNvCxnSpPr/>
          <p:nvPr/>
        </p:nvCxnSpPr>
        <p:spPr>
          <a:xfrm flipH="1">
            <a:off x="662760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09" name=""/>
          <p:cNvCxnSpPr/>
          <p:nvPr/>
        </p:nvCxnSpPr>
        <p:spPr>
          <a:xfrm flipV="1">
            <a:off x="606240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59101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4364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1996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531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7716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5328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7716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24640" y="4076640"/>
            <a:ext cx="1511280" cy="1790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733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61920" y="431496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 is not in MST, but some e’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867280" y="3581280"/>
            <a:ext cx="914400" cy="381240"/>
            <a:chOff x="5867280" y="3581280"/>
            <a:chExt cx="914400" cy="381240"/>
          </a:xfrm>
        </p:grpSpPr>
        <p:sp>
          <p:nvSpPr>
            <p:cNvPr id="321" name=""/>
            <p:cNvSpPr/>
            <p:nvPr/>
          </p:nvSpPr>
          <p:spPr>
            <a:xfrm>
              <a:off x="5867280" y="35812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2200" y="372096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56"/>
                  </a:moveTo>
                  <a:cubicBezTo>
                    <a:pt x="64" y="28"/>
                    <a:pt x="128" y="0"/>
                    <a:pt x="192" y="8"/>
                  </a:cubicBezTo>
                  <a:cubicBezTo>
                    <a:pt x="256" y="16"/>
                    <a:pt x="320" y="60"/>
                    <a:pt x="384" y="1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961920" y="5119560"/>
            <a:ext cx="48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with e forms a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11960" y="3441600"/>
            <a:ext cx="2603520" cy="2527560"/>
          </a:xfrm>
          <a:custGeom>
            <a:avLst/>
            <a:gdLst/>
            <a:ahLst/>
            <a:rect l="l" t="t" r="r" b="b"/>
            <a:pathLst>
              <a:path w="1640" h="1592">
                <a:moveTo>
                  <a:pt x="80" y="1384"/>
                </a:moveTo>
                <a:cubicBezTo>
                  <a:pt x="112" y="1584"/>
                  <a:pt x="168" y="1560"/>
                  <a:pt x="272" y="1576"/>
                </a:cubicBezTo>
                <a:cubicBezTo>
                  <a:pt x="376" y="1592"/>
                  <a:pt x="552" y="1544"/>
                  <a:pt x="704" y="1480"/>
                </a:cubicBezTo>
                <a:cubicBezTo>
                  <a:pt x="856" y="1416"/>
                  <a:pt x="1040" y="1304"/>
                  <a:pt x="1184" y="1192"/>
                </a:cubicBezTo>
                <a:cubicBezTo>
                  <a:pt x="1328" y="1080"/>
                  <a:pt x="1520" y="984"/>
                  <a:pt x="1568" y="808"/>
                </a:cubicBezTo>
                <a:cubicBezTo>
                  <a:pt x="1616" y="632"/>
                  <a:pt x="1640" y="264"/>
                  <a:pt x="1472" y="136"/>
                </a:cubicBezTo>
                <a:cubicBezTo>
                  <a:pt x="1304" y="8"/>
                  <a:pt x="792" y="0"/>
                  <a:pt x="560" y="40"/>
                </a:cubicBezTo>
                <a:cubicBezTo>
                  <a:pt x="328" y="80"/>
                  <a:pt x="160" y="152"/>
                  <a:pt x="80" y="376"/>
                </a:cubicBezTo>
                <a:cubicBezTo>
                  <a:pt x="0" y="600"/>
                  <a:pt x="48" y="1184"/>
                  <a:pt x="80" y="1384"/>
                </a:cubicBezTo>
                <a:close/>
              </a:path>
            </a:pathLst>
          </a:custGeom>
          <a:noFill/>
          <a:ln w="25560">
            <a:solidFill>
              <a:srgbClr val="bbe0e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7315200" y="4038480"/>
            <a:ext cx="1371600" cy="685800"/>
            <a:chOff x="7315200" y="4038480"/>
            <a:chExt cx="1371600" cy="685800"/>
          </a:xfrm>
        </p:grpSpPr>
        <p:sp>
          <p:nvSpPr>
            <p:cNvPr id="326" name=""/>
            <p:cNvSpPr/>
            <p:nvPr/>
          </p:nvSpPr>
          <p:spPr>
            <a:xfrm>
              <a:off x="8305920" y="4038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5200" y="42670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0"/>
                  </a:moveTo>
                  <a:cubicBezTo>
                    <a:pt x="460" y="0"/>
                    <a:pt x="296" y="0"/>
                    <a:pt x="192" y="48"/>
                  </a:cubicBezTo>
                  <a:cubicBezTo>
                    <a:pt x="88" y="96"/>
                    <a:pt x="32" y="248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61920" y="21812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fragment of an MST, let e be a minimum-weight outgoing edge of the fragment. Then joining e and its adjacent non-fragment node to the fragment yields another fragment of an M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95920" y="48006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77160" y="358128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5804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34360" y="46483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67320" y="59436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62760" y="43434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10120" y="5334120"/>
            <a:ext cx="30492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7" idx="7"/>
            <a:endCxn id="333" idx="3"/>
          </p:cNvCxnSpPr>
          <p:nvPr/>
        </p:nvCxnSpPr>
        <p:spPr>
          <a:xfrm flipV="1">
            <a:off x="6323040" y="3841560"/>
            <a:ext cx="699120" cy="54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40" name=""/>
          <p:cNvCxnSpPr>
            <a:stCxn id="332" idx="5"/>
            <a:endCxn id="334" idx="1"/>
          </p:cNvCxnSpPr>
          <p:nvPr/>
        </p:nvCxnSpPr>
        <p:spPr>
          <a:xfrm>
            <a:off x="6856200" y="5060880"/>
            <a:ext cx="546480" cy="3945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41" name=""/>
          <p:cNvCxnSpPr/>
          <p:nvPr/>
        </p:nvCxnSpPr>
        <p:spPr>
          <a:xfrm flipV="1">
            <a:off x="690084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42" name=""/>
          <p:cNvCxnSpPr/>
          <p:nvPr/>
        </p:nvCxnSpPr>
        <p:spPr>
          <a:xfrm flipH="1" flipV="1">
            <a:off x="7237080" y="3841560"/>
            <a:ext cx="349920" cy="8071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43" name=""/>
          <p:cNvCxnSpPr/>
          <p:nvPr/>
        </p:nvCxnSpPr>
        <p:spPr>
          <a:xfrm flipH="1">
            <a:off x="617004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44" name=""/>
          <p:cNvCxnSpPr/>
          <p:nvPr/>
        </p:nvCxnSpPr>
        <p:spPr>
          <a:xfrm flipV="1">
            <a:off x="751032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45" name=""/>
          <p:cNvCxnSpPr/>
          <p:nvPr/>
        </p:nvCxnSpPr>
        <p:spPr>
          <a:xfrm flipH="1">
            <a:off x="662760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346" name=""/>
          <p:cNvCxnSpPr/>
          <p:nvPr/>
        </p:nvCxnSpPr>
        <p:spPr>
          <a:xfrm flipV="1">
            <a:off x="606240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59101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4364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1996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531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7716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5328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7716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24640" y="4076640"/>
            <a:ext cx="1511280" cy="1790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3733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61920" y="431496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 is not in MST, but some e’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67280" y="3581280"/>
            <a:ext cx="914400" cy="381240"/>
            <a:chOff x="5867280" y="3581280"/>
            <a:chExt cx="914400" cy="381240"/>
          </a:xfrm>
        </p:grpSpPr>
        <p:sp>
          <p:nvSpPr>
            <p:cNvPr id="358" name=""/>
            <p:cNvSpPr/>
            <p:nvPr/>
          </p:nvSpPr>
          <p:spPr>
            <a:xfrm>
              <a:off x="5867280" y="35812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72200" y="372096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56"/>
                  </a:moveTo>
                  <a:cubicBezTo>
                    <a:pt x="64" y="28"/>
                    <a:pt x="128" y="0"/>
                    <a:pt x="192" y="8"/>
                  </a:cubicBezTo>
                  <a:cubicBezTo>
                    <a:pt x="256" y="16"/>
                    <a:pt x="320" y="60"/>
                    <a:pt x="384" y="1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961920" y="5119560"/>
            <a:ext cx="48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with e forms a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11960" y="3441600"/>
            <a:ext cx="2603520" cy="2527560"/>
          </a:xfrm>
          <a:custGeom>
            <a:avLst/>
            <a:gdLst/>
            <a:ahLst/>
            <a:rect l="l" t="t" r="r" b="b"/>
            <a:pathLst>
              <a:path w="1640" h="1592">
                <a:moveTo>
                  <a:pt x="80" y="1384"/>
                </a:moveTo>
                <a:cubicBezTo>
                  <a:pt x="112" y="1584"/>
                  <a:pt x="168" y="1560"/>
                  <a:pt x="272" y="1576"/>
                </a:cubicBezTo>
                <a:cubicBezTo>
                  <a:pt x="376" y="1592"/>
                  <a:pt x="552" y="1544"/>
                  <a:pt x="704" y="1480"/>
                </a:cubicBezTo>
                <a:cubicBezTo>
                  <a:pt x="856" y="1416"/>
                  <a:pt x="1040" y="1304"/>
                  <a:pt x="1184" y="1192"/>
                </a:cubicBezTo>
                <a:cubicBezTo>
                  <a:pt x="1328" y="1080"/>
                  <a:pt x="1520" y="984"/>
                  <a:pt x="1568" y="808"/>
                </a:cubicBezTo>
                <a:cubicBezTo>
                  <a:pt x="1616" y="632"/>
                  <a:pt x="1640" y="264"/>
                  <a:pt x="1472" y="136"/>
                </a:cubicBezTo>
                <a:cubicBezTo>
                  <a:pt x="1304" y="8"/>
                  <a:pt x="792" y="0"/>
                  <a:pt x="560" y="40"/>
                </a:cubicBezTo>
                <a:cubicBezTo>
                  <a:pt x="328" y="80"/>
                  <a:pt x="160" y="152"/>
                  <a:pt x="80" y="376"/>
                </a:cubicBezTo>
                <a:cubicBezTo>
                  <a:pt x="0" y="600"/>
                  <a:pt x="48" y="1184"/>
                  <a:pt x="80" y="1384"/>
                </a:cubicBezTo>
                <a:close/>
              </a:path>
            </a:pathLst>
          </a:custGeom>
          <a:noFill/>
          <a:ln w="25560">
            <a:solidFill>
              <a:srgbClr val="bbe0e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61920" y="556272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obtain a cheaper MST with e instead of 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3886200"/>
            <a:ext cx="228600" cy="22860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368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3" idx="7"/>
              <a:endCxn id="369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6" name=""/>
            <p:cNvCxnSpPr>
              <a:stCxn id="368" idx="6"/>
              <a:endCxn id="371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7" name=""/>
            <p:cNvCxnSpPr>
              <a:stCxn id="371" idx="0"/>
              <a:endCxn id="369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8" name=""/>
            <p:cNvCxnSpPr>
              <a:stCxn id="368" idx="3"/>
              <a:endCxn id="374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9" name=""/>
            <p:cNvCxnSpPr>
              <a:stCxn id="368" idx="5"/>
              <a:endCxn id="370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0" name=""/>
            <p:cNvCxnSpPr>
              <a:stCxn id="370" idx="0"/>
              <a:endCxn id="371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1" name=""/>
            <p:cNvCxnSpPr>
              <a:stCxn id="370" idx="3"/>
              <a:endCxn id="372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2" name=""/>
            <p:cNvCxnSpPr>
              <a:stCxn id="374" idx="0"/>
              <a:endCxn id="373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3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395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"/>
            <p:cNvCxnSpPr>
              <a:stCxn id="400" idx="7"/>
              <a:endCxn id="396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3" name=""/>
            <p:cNvCxnSpPr>
              <a:stCxn id="395" idx="6"/>
              <a:endCxn id="398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398" idx="0"/>
              <a:endCxn id="396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5" idx="3"/>
              <a:endCxn id="401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5" idx="5"/>
              <a:endCxn id="397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>
              <a:stCxn id="397" idx="0"/>
              <a:endCxn id="398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397" idx="3"/>
              <a:endCxn id="399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401" idx="0"/>
              <a:endCxn id="400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0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619440" y="3581280"/>
            <a:ext cx="1861920" cy="2667240"/>
            <a:chOff x="3619440" y="3581280"/>
            <a:chExt cx="1861920" cy="2667240"/>
          </a:xfrm>
        </p:grpSpPr>
        <p:sp>
          <p:nvSpPr>
            <p:cNvPr id="419" name=""/>
            <p:cNvSpPr/>
            <p:nvPr/>
          </p:nvSpPr>
          <p:spPr>
            <a:xfrm>
              <a:off x="430524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612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700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4332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7664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7172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1944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6" name=""/>
            <p:cNvCxnSpPr>
              <a:stCxn id="424" idx="7"/>
              <a:endCxn id="420" idx="3"/>
            </p:cNvCxnSpPr>
            <p:nvPr/>
          </p:nvCxnSpPr>
          <p:spPr>
            <a:xfrm flipV="1">
              <a:off x="403164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"/>
            <p:cNvCxnSpPr>
              <a:stCxn id="419" idx="6"/>
              <a:endCxn id="422" idx="2"/>
            </p:cNvCxnSpPr>
            <p:nvPr/>
          </p:nvCxnSpPr>
          <p:spPr>
            <a:xfrm flipV="1">
              <a:off x="460980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422" idx="0"/>
              <a:endCxn id="420" idx="5"/>
            </p:cNvCxnSpPr>
            <p:nvPr/>
          </p:nvCxnSpPr>
          <p:spPr>
            <a:xfrm flipH="1" flipV="1">
              <a:off x="494604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419" idx="3"/>
              <a:endCxn id="425" idx="7"/>
            </p:cNvCxnSpPr>
            <p:nvPr/>
          </p:nvCxnSpPr>
          <p:spPr>
            <a:xfrm flipH="1">
              <a:off x="387900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stCxn id="419" idx="5"/>
              <a:endCxn id="421" idx="1"/>
            </p:cNvCxnSpPr>
            <p:nvPr/>
          </p:nvCxnSpPr>
          <p:spPr>
            <a:xfrm>
              <a:off x="456516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421" idx="0"/>
              <a:endCxn id="422" idx="4"/>
            </p:cNvCxnSpPr>
            <p:nvPr/>
          </p:nvCxnSpPr>
          <p:spPr>
            <a:xfrm flipV="1">
              <a:off x="521928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421" idx="3"/>
              <a:endCxn id="423" idx="7"/>
            </p:cNvCxnSpPr>
            <p:nvPr/>
          </p:nvCxnSpPr>
          <p:spPr>
            <a:xfrm flipH="1">
              <a:off x="433656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425" idx="0"/>
              <a:endCxn id="424" idx="4"/>
            </p:cNvCxnSpPr>
            <p:nvPr/>
          </p:nvCxnSpPr>
          <p:spPr>
            <a:xfrm flipV="1">
              <a:off x="377136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4" name=""/>
            <p:cNvSpPr/>
            <p:nvPr/>
          </p:nvSpPr>
          <p:spPr>
            <a:xfrm>
              <a:off x="361944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260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2892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6244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612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6224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5276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8612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74 0.00555 L 0.35174 0.00555 E">
                                      <p:cBhvr>
                                        <p:cTn id="86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-0.00556 L -0.34757 -0.00556 E">
                                      <p:cBhvr>
                                        <p:cTn id="8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38120" y="3538440"/>
            <a:ext cx="1861920" cy="2667240"/>
            <a:chOff x="438120" y="3538440"/>
            <a:chExt cx="1861920" cy="2667240"/>
          </a:xfrm>
        </p:grpSpPr>
        <p:sp>
          <p:nvSpPr>
            <p:cNvPr id="447" name=""/>
            <p:cNvSpPr/>
            <p:nvPr/>
          </p:nvSpPr>
          <p:spPr>
            <a:xfrm>
              <a:off x="1123920" y="4757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04800" y="3538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85680" y="5367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2000" y="4605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95320" y="5900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0400" y="4300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8120" y="5291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2" idx="7"/>
              <a:endCxn id="448" idx="3"/>
            </p:cNvCxnSpPr>
            <p:nvPr/>
          </p:nvCxnSpPr>
          <p:spPr>
            <a:xfrm flipV="1">
              <a:off x="850320" y="3798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55" name=""/>
            <p:cNvCxnSpPr>
              <a:stCxn id="447" idx="6"/>
              <a:endCxn id="450" idx="2"/>
            </p:cNvCxnSpPr>
            <p:nvPr/>
          </p:nvCxnSpPr>
          <p:spPr>
            <a:xfrm flipV="1">
              <a:off x="1428480" y="4757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56" name=""/>
            <p:cNvCxnSpPr>
              <a:stCxn id="450" idx="0"/>
              <a:endCxn id="448" idx="5"/>
            </p:cNvCxnSpPr>
            <p:nvPr/>
          </p:nvCxnSpPr>
          <p:spPr>
            <a:xfrm flipH="1" flipV="1">
              <a:off x="1764720" y="3798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57" name=""/>
            <p:cNvCxnSpPr>
              <a:stCxn id="447" idx="3"/>
              <a:endCxn id="453" idx="7"/>
            </p:cNvCxnSpPr>
            <p:nvPr/>
          </p:nvCxnSpPr>
          <p:spPr>
            <a:xfrm flipH="1">
              <a:off x="697680" y="5018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58" name=""/>
            <p:cNvCxnSpPr>
              <a:stCxn id="447" idx="5"/>
              <a:endCxn id="449" idx="1"/>
            </p:cNvCxnSpPr>
            <p:nvPr/>
          </p:nvCxnSpPr>
          <p:spPr>
            <a:xfrm>
              <a:off x="1383840" y="501804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59" name=""/>
            <p:cNvCxnSpPr>
              <a:stCxn id="449" idx="0"/>
              <a:endCxn id="450" idx="4"/>
            </p:cNvCxnSpPr>
            <p:nvPr/>
          </p:nvCxnSpPr>
          <p:spPr>
            <a:xfrm flipV="1">
              <a:off x="2037960" y="490968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60" name=""/>
            <p:cNvCxnSpPr>
              <a:stCxn id="449" idx="3"/>
              <a:endCxn id="451" idx="7"/>
            </p:cNvCxnSpPr>
            <p:nvPr/>
          </p:nvCxnSpPr>
          <p:spPr>
            <a:xfrm flipH="1">
              <a:off x="1155240" y="5627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61" name=""/>
            <p:cNvCxnSpPr>
              <a:stCxn id="453" idx="0"/>
              <a:endCxn id="452" idx="4"/>
            </p:cNvCxnSpPr>
            <p:nvPr/>
          </p:nvCxnSpPr>
          <p:spPr>
            <a:xfrm flipV="1">
              <a:off x="590040" y="4604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462" name=""/>
            <p:cNvSpPr/>
            <p:nvPr/>
          </p:nvSpPr>
          <p:spPr>
            <a:xfrm>
              <a:off x="438120" y="4757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71280" y="3828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47600" y="3933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4529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04800" y="573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0920" y="5091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71440" y="4971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4800" y="5138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838920" y="3619440"/>
            <a:ext cx="1861920" cy="2667240"/>
            <a:chOff x="6838920" y="3619440"/>
            <a:chExt cx="1861920" cy="2667240"/>
          </a:xfrm>
        </p:grpSpPr>
        <p:sp>
          <p:nvSpPr>
            <p:cNvPr id="471" name=""/>
            <p:cNvSpPr/>
            <p:nvPr/>
          </p:nvSpPr>
          <p:spPr>
            <a:xfrm>
              <a:off x="7524720" y="4838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05600" y="3619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86480" y="5448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2800" y="4686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96120" y="5981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91200" y="4381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38920" y="5372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"/>
            <p:cNvCxnSpPr>
              <a:stCxn id="476" idx="7"/>
              <a:endCxn id="472" idx="3"/>
            </p:cNvCxnSpPr>
            <p:nvPr/>
          </p:nvCxnSpPr>
          <p:spPr>
            <a:xfrm flipV="1">
              <a:off x="7251120" y="3879720"/>
              <a:ext cx="699480" cy="5464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79" name=""/>
            <p:cNvCxnSpPr>
              <a:stCxn id="471" idx="6"/>
              <a:endCxn id="474" idx="2"/>
            </p:cNvCxnSpPr>
            <p:nvPr/>
          </p:nvCxnSpPr>
          <p:spPr>
            <a:xfrm flipV="1">
              <a:off x="7829280" y="4838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80" name=""/>
            <p:cNvCxnSpPr>
              <a:stCxn id="474" idx="0"/>
              <a:endCxn id="472" idx="5"/>
            </p:cNvCxnSpPr>
            <p:nvPr/>
          </p:nvCxnSpPr>
          <p:spPr>
            <a:xfrm flipH="1" flipV="1">
              <a:off x="8165520" y="3879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81" name=""/>
            <p:cNvCxnSpPr>
              <a:stCxn id="471" idx="3"/>
              <a:endCxn id="477" idx="7"/>
            </p:cNvCxnSpPr>
            <p:nvPr/>
          </p:nvCxnSpPr>
          <p:spPr>
            <a:xfrm flipH="1">
              <a:off x="7098480" y="5099040"/>
              <a:ext cx="470520" cy="317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82" name=""/>
            <p:cNvCxnSpPr>
              <a:stCxn id="471" idx="5"/>
              <a:endCxn id="473" idx="1"/>
            </p:cNvCxnSpPr>
            <p:nvPr/>
          </p:nvCxnSpPr>
          <p:spPr>
            <a:xfrm>
              <a:off x="7784640" y="5099040"/>
              <a:ext cx="546480" cy="3945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83" name=""/>
            <p:cNvCxnSpPr>
              <a:stCxn id="473" idx="0"/>
              <a:endCxn id="474" idx="4"/>
            </p:cNvCxnSpPr>
            <p:nvPr/>
          </p:nvCxnSpPr>
          <p:spPr>
            <a:xfrm flipV="1">
              <a:off x="8438760" y="4990680"/>
              <a:ext cx="76680" cy="4579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84" name=""/>
            <p:cNvCxnSpPr>
              <a:stCxn id="473" idx="3"/>
              <a:endCxn id="475" idx="7"/>
            </p:cNvCxnSpPr>
            <p:nvPr/>
          </p:nvCxnSpPr>
          <p:spPr>
            <a:xfrm flipH="1">
              <a:off x="7556040" y="5708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485" name=""/>
            <p:cNvCxnSpPr>
              <a:stCxn id="477" idx="0"/>
              <a:endCxn id="476" idx="4"/>
            </p:cNvCxnSpPr>
            <p:nvPr/>
          </p:nvCxnSpPr>
          <p:spPr>
            <a:xfrm flipV="1">
              <a:off x="6990840" y="4685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486" name=""/>
            <p:cNvSpPr/>
            <p:nvPr/>
          </p:nvSpPr>
          <p:spPr>
            <a:xfrm>
              <a:off x="6838920" y="4838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72080" y="3909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8400" y="4014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81920" y="4610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05600" y="5815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81720" y="5172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72240" y="5052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05600" y="5219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438280" y="340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xistence of two M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33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341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38120" y="3538440"/>
            <a:ext cx="1861920" cy="2667240"/>
            <a:chOff x="438120" y="3538440"/>
            <a:chExt cx="1861920" cy="2667240"/>
          </a:xfrm>
        </p:grpSpPr>
        <p:sp>
          <p:nvSpPr>
            <p:cNvPr id="502" name=""/>
            <p:cNvSpPr/>
            <p:nvPr/>
          </p:nvSpPr>
          <p:spPr>
            <a:xfrm>
              <a:off x="1123920" y="4757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4800" y="3538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85680" y="5367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62000" y="4605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5320" y="5900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0400" y="4300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8120" y="5291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"/>
            <p:cNvCxnSpPr>
              <a:stCxn id="507" idx="7"/>
              <a:endCxn id="503" idx="3"/>
            </p:cNvCxnSpPr>
            <p:nvPr/>
          </p:nvCxnSpPr>
          <p:spPr>
            <a:xfrm flipV="1">
              <a:off x="850320" y="3798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10" name=""/>
            <p:cNvCxnSpPr>
              <a:stCxn id="502" idx="6"/>
              <a:endCxn id="505" idx="2"/>
            </p:cNvCxnSpPr>
            <p:nvPr/>
          </p:nvCxnSpPr>
          <p:spPr>
            <a:xfrm flipV="1">
              <a:off x="1428480" y="4757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11" name=""/>
            <p:cNvCxnSpPr>
              <a:stCxn id="505" idx="0"/>
              <a:endCxn id="503" idx="5"/>
            </p:cNvCxnSpPr>
            <p:nvPr/>
          </p:nvCxnSpPr>
          <p:spPr>
            <a:xfrm flipH="1" flipV="1">
              <a:off x="1764720" y="3798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12" name=""/>
            <p:cNvCxnSpPr>
              <a:stCxn id="502" idx="3"/>
              <a:endCxn id="508" idx="7"/>
            </p:cNvCxnSpPr>
            <p:nvPr/>
          </p:nvCxnSpPr>
          <p:spPr>
            <a:xfrm flipH="1">
              <a:off x="697680" y="5018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13" name=""/>
            <p:cNvCxnSpPr>
              <a:stCxn id="502" idx="5"/>
              <a:endCxn id="504" idx="1"/>
            </p:cNvCxnSpPr>
            <p:nvPr/>
          </p:nvCxnSpPr>
          <p:spPr>
            <a:xfrm>
              <a:off x="1383840" y="501804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14" name=""/>
            <p:cNvCxnSpPr>
              <a:stCxn id="504" idx="0"/>
              <a:endCxn id="505" idx="4"/>
            </p:cNvCxnSpPr>
            <p:nvPr/>
          </p:nvCxnSpPr>
          <p:spPr>
            <a:xfrm flipV="1">
              <a:off x="2037960" y="490968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15" name=""/>
            <p:cNvCxnSpPr>
              <a:stCxn id="504" idx="3"/>
              <a:endCxn id="506" idx="7"/>
            </p:cNvCxnSpPr>
            <p:nvPr/>
          </p:nvCxnSpPr>
          <p:spPr>
            <a:xfrm flipH="1">
              <a:off x="1155240" y="5627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16" name=""/>
            <p:cNvCxnSpPr>
              <a:stCxn id="508" idx="0"/>
              <a:endCxn id="507" idx="4"/>
            </p:cNvCxnSpPr>
            <p:nvPr/>
          </p:nvCxnSpPr>
          <p:spPr>
            <a:xfrm flipV="1">
              <a:off x="590040" y="4604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38120" y="4757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71280" y="3828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47600" y="3933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1120" y="4529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04800" y="573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091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71440" y="4971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4800" y="5138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838920" y="3619440"/>
            <a:ext cx="1861920" cy="2667240"/>
            <a:chOff x="6838920" y="3619440"/>
            <a:chExt cx="1861920" cy="2667240"/>
          </a:xfrm>
        </p:grpSpPr>
        <p:sp>
          <p:nvSpPr>
            <p:cNvPr id="526" name=""/>
            <p:cNvSpPr/>
            <p:nvPr/>
          </p:nvSpPr>
          <p:spPr>
            <a:xfrm>
              <a:off x="7524720" y="4838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05600" y="3619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86480" y="5448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62800" y="4686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96120" y="5981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1200" y="4381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38920" y="5372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1" idx="7"/>
              <a:endCxn id="527" idx="3"/>
            </p:cNvCxnSpPr>
            <p:nvPr/>
          </p:nvCxnSpPr>
          <p:spPr>
            <a:xfrm flipV="1">
              <a:off x="7251120" y="3879720"/>
              <a:ext cx="699480" cy="5464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34" name=""/>
            <p:cNvCxnSpPr>
              <a:stCxn id="526" idx="6"/>
              <a:endCxn id="529" idx="2"/>
            </p:cNvCxnSpPr>
            <p:nvPr/>
          </p:nvCxnSpPr>
          <p:spPr>
            <a:xfrm flipV="1">
              <a:off x="7829280" y="4838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35" name=""/>
            <p:cNvCxnSpPr>
              <a:stCxn id="529" idx="0"/>
              <a:endCxn id="527" idx="5"/>
            </p:cNvCxnSpPr>
            <p:nvPr/>
          </p:nvCxnSpPr>
          <p:spPr>
            <a:xfrm flipH="1" flipV="1">
              <a:off x="8165520" y="3879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36" name=""/>
            <p:cNvCxnSpPr>
              <a:stCxn id="526" idx="3"/>
              <a:endCxn id="532" idx="7"/>
            </p:cNvCxnSpPr>
            <p:nvPr/>
          </p:nvCxnSpPr>
          <p:spPr>
            <a:xfrm flipH="1">
              <a:off x="7098480" y="5099040"/>
              <a:ext cx="470520" cy="317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37" name=""/>
            <p:cNvCxnSpPr>
              <a:stCxn id="526" idx="5"/>
              <a:endCxn id="528" idx="1"/>
            </p:cNvCxnSpPr>
            <p:nvPr/>
          </p:nvCxnSpPr>
          <p:spPr>
            <a:xfrm>
              <a:off x="7784640" y="5099040"/>
              <a:ext cx="546480" cy="3945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38" name=""/>
            <p:cNvCxnSpPr>
              <a:stCxn id="528" idx="0"/>
              <a:endCxn id="529" idx="4"/>
            </p:cNvCxnSpPr>
            <p:nvPr/>
          </p:nvCxnSpPr>
          <p:spPr>
            <a:xfrm flipV="1">
              <a:off x="8438760" y="4990680"/>
              <a:ext cx="76680" cy="4579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39" name=""/>
            <p:cNvCxnSpPr>
              <a:stCxn id="528" idx="3"/>
              <a:endCxn id="530" idx="7"/>
            </p:cNvCxnSpPr>
            <p:nvPr/>
          </p:nvCxnSpPr>
          <p:spPr>
            <a:xfrm flipH="1">
              <a:off x="7556040" y="5708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40" name=""/>
            <p:cNvCxnSpPr>
              <a:stCxn id="532" idx="0"/>
              <a:endCxn id="531" idx="4"/>
            </p:cNvCxnSpPr>
            <p:nvPr/>
          </p:nvCxnSpPr>
          <p:spPr>
            <a:xfrm flipV="1">
              <a:off x="6990840" y="4685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541" name=""/>
            <p:cNvSpPr/>
            <p:nvPr/>
          </p:nvSpPr>
          <p:spPr>
            <a:xfrm>
              <a:off x="6838920" y="4838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72080" y="3909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48400" y="4014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81920" y="4610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05600" y="5815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81720" y="5172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72240" y="5052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05600" y="5219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438280" y="340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xistence of two M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33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341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38386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 be the minimal-weight edge not in both MSTs (wlog e in 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4038480"/>
            <a:ext cx="343080" cy="1067040"/>
          </a:xfrm>
          <a:custGeom>
            <a:avLst/>
            <a:gdLst/>
            <a:ahLst/>
            <a:rect l="l" t="t" r="r" b="b"/>
            <a:pathLst>
              <a:path w="216" h="672">
                <a:moveTo>
                  <a:pt x="0" y="0"/>
                </a:moveTo>
                <a:cubicBezTo>
                  <a:pt x="84" y="16"/>
                  <a:pt x="168" y="32"/>
                  <a:pt x="192" y="144"/>
                </a:cubicBezTo>
                <a:cubicBezTo>
                  <a:pt x="216" y="256"/>
                  <a:pt x="180" y="464"/>
                  <a:pt x="144" y="6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38120" y="3538440"/>
            <a:ext cx="1861920" cy="2667240"/>
            <a:chOff x="438120" y="3538440"/>
            <a:chExt cx="1861920" cy="2667240"/>
          </a:xfrm>
        </p:grpSpPr>
        <p:sp>
          <p:nvSpPr>
            <p:cNvPr id="560" name=""/>
            <p:cNvSpPr/>
            <p:nvPr/>
          </p:nvSpPr>
          <p:spPr>
            <a:xfrm>
              <a:off x="1123920" y="4757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04800" y="3538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85680" y="5367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62000" y="4605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95320" y="5900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400" y="4300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8120" y="5291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7" name=""/>
            <p:cNvCxnSpPr>
              <a:stCxn id="565" idx="7"/>
              <a:endCxn id="561" idx="3"/>
            </p:cNvCxnSpPr>
            <p:nvPr/>
          </p:nvCxnSpPr>
          <p:spPr>
            <a:xfrm flipV="1">
              <a:off x="850320" y="3798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68" name=""/>
            <p:cNvCxnSpPr>
              <a:stCxn id="560" idx="6"/>
              <a:endCxn id="563" idx="2"/>
            </p:cNvCxnSpPr>
            <p:nvPr/>
          </p:nvCxnSpPr>
          <p:spPr>
            <a:xfrm flipV="1">
              <a:off x="1428480" y="4757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69" name=""/>
            <p:cNvCxnSpPr>
              <a:stCxn id="563" idx="0"/>
              <a:endCxn id="561" idx="5"/>
            </p:cNvCxnSpPr>
            <p:nvPr/>
          </p:nvCxnSpPr>
          <p:spPr>
            <a:xfrm flipH="1" flipV="1">
              <a:off x="1764720" y="3798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70" name=""/>
            <p:cNvCxnSpPr>
              <a:stCxn id="560" idx="3"/>
              <a:endCxn id="566" idx="7"/>
            </p:cNvCxnSpPr>
            <p:nvPr/>
          </p:nvCxnSpPr>
          <p:spPr>
            <a:xfrm flipH="1">
              <a:off x="697680" y="5018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71" name=""/>
            <p:cNvCxnSpPr>
              <a:stCxn id="560" idx="5"/>
              <a:endCxn id="562" idx="1"/>
            </p:cNvCxnSpPr>
            <p:nvPr/>
          </p:nvCxnSpPr>
          <p:spPr>
            <a:xfrm>
              <a:off x="1383840" y="501804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72" name=""/>
            <p:cNvCxnSpPr>
              <a:stCxn id="562" idx="0"/>
              <a:endCxn id="563" idx="4"/>
            </p:cNvCxnSpPr>
            <p:nvPr/>
          </p:nvCxnSpPr>
          <p:spPr>
            <a:xfrm flipV="1">
              <a:off x="2037960" y="490968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73" name=""/>
            <p:cNvCxnSpPr>
              <a:stCxn id="562" idx="3"/>
              <a:endCxn id="564" idx="7"/>
            </p:cNvCxnSpPr>
            <p:nvPr/>
          </p:nvCxnSpPr>
          <p:spPr>
            <a:xfrm flipH="1">
              <a:off x="1155240" y="5627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74" name=""/>
            <p:cNvCxnSpPr>
              <a:stCxn id="566" idx="0"/>
              <a:endCxn id="565" idx="4"/>
            </p:cNvCxnSpPr>
            <p:nvPr/>
          </p:nvCxnSpPr>
          <p:spPr>
            <a:xfrm flipV="1">
              <a:off x="590040" y="4604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575" name=""/>
            <p:cNvSpPr/>
            <p:nvPr/>
          </p:nvSpPr>
          <p:spPr>
            <a:xfrm>
              <a:off x="438120" y="4757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71280" y="3828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47600" y="3933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81120" y="4529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04800" y="573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920" y="5091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71440" y="4971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4800" y="5138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838920" y="3619440"/>
            <a:ext cx="1861920" cy="2667240"/>
            <a:chOff x="6838920" y="3619440"/>
            <a:chExt cx="1861920" cy="2667240"/>
          </a:xfrm>
        </p:grpSpPr>
        <p:sp>
          <p:nvSpPr>
            <p:cNvPr id="584" name=""/>
            <p:cNvSpPr/>
            <p:nvPr/>
          </p:nvSpPr>
          <p:spPr>
            <a:xfrm>
              <a:off x="7524720" y="4838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05600" y="3619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86480" y="5448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62800" y="4686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96120" y="5981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1200" y="4381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38920" y="5372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1" name=""/>
            <p:cNvCxnSpPr>
              <a:stCxn id="589" idx="7"/>
              <a:endCxn id="585" idx="3"/>
            </p:cNvCxnSpPr>
            <p:nvPr/>
          </p:nvCxnSpPr>
          <p:spPr>
            <a:xfrm flipV="1">
              <a:off x="7251120" y="3879720"/>
              <a:ext cx="699480" cy="5464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92" name=""/>
            <p:cNvCxnSpPr>
              <a:stCxn id="584" idx="6"/>
              <a:endCxn id="587" idx="2"/>
            </p:cNvCxnSpPr>
            <p:nvPr/>
          </p:nvCxnSpPr>
          <p:spPr>
            <a:xfrm flipV="1">
              <a:off x="7829280" y="4838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93" name=""/>
            <p:cNvCxnSpPr>
              <a:stCxn id="587" idx="0"/>
              <a:endCxn id="585" idx="5"/>
            </p:cNvCxnSpPr>
            <p:nvPr/>
          </p:nvCxnSpPr>
          <p:spPr>
            <a:xfrm flipH="1" flipV="1">
              <a:off x="8165520" y="3879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94" name=""/>
            <p:cNvCxnSpPr>
              <a:stCxn id="584" idx="3"/>
              <a:endCxn id="590" idx="7"/>
            </p:cNvCxnSpPr>
            <p:nvPr/>
          </p:nvCxnSpPr>
          <p:spPr>
            <a:xfrm flipH="1">
              <a:off x="7098480" y="5099040"/>
              <a:ext cx="470520" cy="317880"/>
            </a:xfrm>
            <a:prstGeom prst="straightConnector1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95" name=""/>
            <p:cNvCxnSpPr>
              <a:stCxn id="584" idx="5"/>
              <a:endCxn id="586" idx="1"/>
            </p:cNvCxnSpPr>
            <p:nvPr/>
          </p:nvCxnSpPr>
          <p:spPr>
            <a:xfrm>
              <a:off x="7784640" y="5099040"/>
              <a:ext cx="546480" cy="3945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96" name=""/>
            <p:cNvCxnSpPr>
              <a:stCxn id="586" idx="0"/>
              <a:endCxn id="587" idx="4"/>
            </p:cNvCxnSpPr>
            <p:nvPr/>
          </p:nvCxnSpPr>
          <p:spPr>
            <a:xfrm flipV="1">
              <a:off x="8438760" y="4990680"/>
              <a:ext cx="76680" cy="4579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597" name=""/>
            <p:cNvCxnSpPr>
              <a:stCxn id="586" idx="3"/>
              <a:endCxn id="588" idx="7"/>
            </p:cNvCxnSpPr>
            <p:nvPr/>
          </p:nvCxnSpPr>
          <p:spPr>
            <a:xfrm flipH="1">
              <a:off x="7556040" y="5708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598" name=""/>
            <p:cNvCxnSpPr>
              <a:stCxn id="590" idx="0"/>
              <a:endCxn id="589" idx="4"/>
            </p:cNvCxnSpPr>
            <p:nvPr/>
          </p:nvCxnSpPr>
          <p:spPr>
            <a:xfrm flipV="1">
              <a:off x="6990840" y="4685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599" name=""/>
            <p:cNvSpPr/>
            <p:nvPr/>
          </p:nvSpPr>
          <p:spPr>
            <a:xfrm>
              <a:off x="6838920" y="4838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72080" y="3909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48400" y="4014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81920" y="4610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05600" y="5815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81720" y="5172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72240" y="5052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05600" y="5219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438280" y="340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xistence of two M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333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1341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38386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 be the minimal-weight edge not in both MSTs (wlog e in 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38280" y="46353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 with e has 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03840" y="3327480"/>
            <a:ext cx="2400480" cy="2654280"/>
          </a:xfrm>
          <a:custGeom>
            <a:avLst/>
            <a:gdLst/>
            <a:ahLst/>
            <a:rect l="l" t="t" r="r" b="b"/>
            <a:pathLst>
              <a:path w="1512" h="1672">
                <a:moveTo>
                  <a:pt x="16" y="1408"/>
                </a:moveTo>
                <a:cubicBezTo>
                  <a:pt x="32" y="1576"/>
                  <a:pt x="72" y="1672"/>
                  <a:pt x="304" y="1600"/>
                </a:cubicBezTo>
                <a:cubicBezTo>
                  <a:pt x="536" y="1528"/>
                  <a:pt x="1304" y="1232"/>
                  <a:pt x="1408" y="976"/>
                </a:cubicBezTo>
                <a:cubicBezTo>
                  <a:pt x="1512" y="720"/>
                  <a:pt x="1128" y="128"/>
                  <a:pt x="928" y="64"/>
                </a:cubicBezTo>
                <a:cubicBezTo>
                  <a:pt x="728" y="0"/>
                  <a:pt x="360" y="368"/>
                  <a:pt x="208" y="592"/>
                </a:cubicBezTo>
                <a:cubicBezTo>
                  <a:pt x="56" y="816"/>
                  <a:pt x="0" y="1240"/>
                  <a:pt x="16" y="1408"/>
                </a:cubicBezTo>
                <a:close/>
              </a:path>
            </a:pathLst>
          </a:custGeom>
          <a:noFill/>
          <a:ln w="25560">
            <a:solidFill>
              <a:srgbClr val="bbe0e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4038480"/>
            <a:ext cx="343080" cy="1067040"/>
          </a:xfrm>
          <a:custGeom>
            <a:avLst/>
            <a:gdLst/>
            <a:ahLst/>
            <a:rect l="l" t="t" r="r" b="b"/>
            <a:pathLst>
              <a:path w="216" h="672">
                <a:moveTo>
                  <a:pt x="0" y="0"/>
                </a:moveTo>
                <a:cubicBezTo>
                  <a:pt x="84" y="16"/>
                  <a:pt x="168" y="32"/>
                  <a:pt x="192" y="144"/>
                </a:cubicBezTo>
                <a:cubicBezTo>
                  <a:pt x="216" y="256"/>
                  <a:pt x="180" y="464"/>
                  <a:pt x="144" y="6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38120" y="3538440"/>
            <a:ext cx="1861920" cy="2667240"/>
            <a:chOff x="438120" y="3538440"/>
            <a:chExt cx="1861920" cy="2667240"/>
          </a:xfrm>
        </p:grpSpPr>
        <p:sp>
          <p:nvSpPr>
            <p:cNvPr id="620" name=""/>
            <p:cNvSpPr/>
            <p:nvPr/>
          </p:nvSpPr>
          <p:spPr>
            <a:xfrm>
              <a:off x="1123920" y="4757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04800" y="3538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85680" y="5367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2000" y="4605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95320" y="5900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0400" y="4300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8120" y="5291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7" name=""/>
            <p:cNvCxnSpPr>
              <a:stCxn id="625" idx="7"/>
              <a:endCxn id="621" idx="3"/>
            </p:cNvCxnSpPr>
            <p:nvPr/>
          </p:nvCxnSpPr>
          <p:spPr>
            <a:xfrm flipV="1">
              <a:off x="850320" y="3798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28" name=""/>
            <p:cNvCxnSpPr>
              <a:stCxn id="620" idx="6"/>
              <a:endCxn id="623" idx="2"/>
            </p:cNvCxnSpPr>
            <p:nvPr/>
          </p:nvCxnSpPr>
          <p:spPr>
            <a:xfrm flipV="1">
              <a:off x="1428480" y="4757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29" name=""/>
            <p:cNvCxnSpPr>
              <a:stCxn id="623" idx="0"/>
              <a:endCxn id="621" idx="5"/>
            </p:cNvCxnSpPr>
            <p:nvPr/>
          </p:nvCxnSpPr>
          <p:spPr>
            <a:xfrm flipH="1" flipV="1">
              <a:off x="1764720" y="3798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30" name=""/>
            <p:cNvCxnSpPr>
              <a:stCxn id="620" idx="3"/>
              <a:endCxn id="626" idx="7"/>
            </p:cNvCxnSpPr>
            <p:nvPr/>
          </p:nvCxnSpPr>
          <p:spPr>
            <a:xfrm flipH="1">
              <a:off x="697680" y="5018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31" name=""/>
            <p:cNvCxnSpPr>
              <a:stCxn id="620" idx="5"/>
              <a:endCxn id="622" idx="1"/>
            </p:cNvCxnSpPr>
            <p:nvPr/>
          </p:nvCxnSpPr>
          <p:spPr>
            <a:xfrm>
              <a:off x="1383840" y="501804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32" name=""/>
            <p:cNvCxnSpPr>
              <a:stCxn id="622" idx="0"/>
              <a:endCxn id="623" idx="4"/>
            </p:cNvCxnSpPr>
            <p:nvPr/>
          </p:nvCxnSpPr>
          <p:spPr>
            <a:xfrm flipV="1">
              <a:off x="2037960" y="490968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33" name=""/>
            <p:cNvCxnSpPr>
              <a:stCxn id="622" idx="3"/>
              <a:endCxn id="624" idx="7"/>
            </p:cNvCxnSpPr>
            <p:nvPr/>
          </p:nvCxnSpPr>
          <p:spPr>
            <a:xfrm flipH="1">
              <a:off x="1155240" y="5627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34" name=""/>
            <p:cNvCxnSpPr>
              <a:stCxn id="626" idx="0"/>
              <a:endCxn id="625" idx="4"/>
            </p:cNvCxnSpPr>
            <p:nvPr/>
          </p:nvCxnSpPr>
          <p:spPr>
            <a:xfrm flipV="1">
              <a:off x="590040" y="4604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635" name=""/>
            <p:cNvSpPr/>
            <p:nvPr/>
          </p:nvSpPr>
          <p:spPr>
            <a:xfrm>
              <a:off x="438120" y="4757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71280" y="3828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47600" y="3933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81120" y="4529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04800" y="573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80920" y="5091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71440" y="4971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04800" y="5138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838920" y="3619440"/>
            <a:ext cx="1861920" cy="2667240"/>
            <a:chOff x="6838920" y="3619440"/>
            <a:chExt cx="1861920" cy="2667240"/>
          </a:xfrm>
        </p:grpSpPr>
        <p:sp>
          <p:nvSpPr>
            <p:cNvPr id="644" name=""/>
            <p:cNvSpPr/>
            <p:nvPr/>
          </p:nvSpPr>
          <p:spPr>
            <a:xfrm>
              <a:off x="7524720" y="4838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05600" y="3619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86480" y="5448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62800" y="4686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96120" y="5981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91200" y="4381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38920" y="5372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"/>
            <p:cNvCxnSpPr>
              <a:stCxn id="649" idx="7"/>
              <a:endCxn id="645" idx="3"/>
            </p:cNvCxnSpPr>
            <p:nvPr/>
          </p:nvCxnSpPr>
          <p:spPr>
            <a:xfrm flipV="1">
              <a:off x="7251120" y="3879720"/>
              <a:ext cx="699480" cy="5464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52" name=""/>
            <p:cNvCxnSpPr>
              <a:stCxn id="644" idx="6"/>
              <a:endCxn id="647" idx="2"/>
            </p:cNvCxnSpPr>
            <p:nvPr/>
          </p:nvCxnSpPr>
          <p:spPr>
            <a:xfrm flipV="1">
              <a:off x="7829280" y="4838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53" name=""/>
            <p:cNvCxnSpPr>
              <a:stCxn id="647" idx="0"/>
              <a:endCxn id="645" idx="5"/>
            </p:cNvCxnSpPr>
            <p:nvPr/>
          </p:nvCxnSpPr>
          <p:spPr>
            <a:xfrm flipH="1" flipV="1">
              <a:off x="8165520" y="3879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54" name=""/>
            <p:cNvCxnSpPr>
              <a:stCxn id="644" idx="3"/>
              <a:endCxn id="650" idx="7"/>
            </p:cNvCxnSpPr>
            <p:nvPr/>
          </p:nvCxnSpPr>
          <p:spPr>
            <a:xfrm flipH="1">
              <a:off x="7098480" y="5099040"/>
              <a:ext cx="470520" cy="317880"/>
            </a:xfrm>
            <a:prstGeom prst="straightConnector1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55" name=""/>
            <p:cNvCxnSpPr>
              <a:stCxn id="644" idx="5"/>
              <a:endCxn id="646" idx="1"/>
            </p:cNvCxnSpPr>
            <p:nvPr/>
          </p:nvCxnSpPr>
          <p:spPr>
            <a:xfrm>
              <a:off x="7784640" y="5099040"/>
              <a:ext cx="546480" cy="3945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56" name=""/>
            <p:cNvCxnSpPr>
              <a:stCxn id="646" idx="0"/>
              <a:endCxn id="647" idx="4"/>
            </p:cNvCxnSpPr>
            <p:nvPr/>
          </p:nvCxnSpPr>
          <p:spPr>
            <a:xfrm flipV="1">
              <a:off x="8438760" y="4990680"/>
              <a:ext cx="76680" cy="4579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57" name=""/>
            <p:cNvCxnSpPr>
              <a:stCxn id="646" idx="3"/>
              <a:endCxn id="648" idx="7"/>
            </p:cNvCxnSpPr>
            <p:nvPr/>
          </p:nvCxnSpPr>
          <p:spPr>
            <a:xfrm flipH="1">
              <a:off x="7556040" y="5708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58" name=""/>
            <p:cNvCxnSpPr>
              <a:stCxn id="650" idx="0"/>
              <a:endCxn id="649" idx="4"/>
            </p:cNvCxnSpPr>
            <p:nvPr/>
          </p:nvCxnSpPr>
          <p:spPr>
            <a:xfrm flipV="1">
              <a:off x="6990840" y="4685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6838920" y="4838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72080" y="3909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48400" y="4014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981920" y="4610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05600" y="5815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81720" y="5172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72240" y="5052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905600" y="5219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438280" y="340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xistence of two M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333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341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438280" y="38386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 be the minimal-weight edge not in both MSTs (wlog e in 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46353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 with e has 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603840" y="3327480"/>
            <a:ext cx="2400480" cy="2654280"/>
          </a:xfrm>
          <a:custGeom>
            <a:avLst/>
            <a:gdLst/>
            <a:ahLst/>
            <a:rect l="l" t="t" r="r" b="b"/>
            <a:pathLst>
              <a:path w="1512" h="1672">
                <a:moveTo>
                  <a:pt x="16" y="1408"/>
                </a:moveTo>
                <a:cubicBezTo>
                  <a:pt x="32" y="1576"/>
                  <a:pt x="72" y="1672"/>
                  <a:pt x="304" y="1600"/>
                </a:cubicBezTo>
                <a:cubicBezTo>
                  <a:pt x="536" y="1528"/>
                  <a:pt x="1304" y="1232"/>
                  <a:pt x="1408" y="976"/>
                </a:cubicBezTo>
                <a:cubicBezTo>
                  <a:pt x="1512" y="720"/>
                  <a:pt x="1128" y="128"/>
                  <a:pt x="928" y="64"/>
                </a:cubicBezTo>
                <a:cubicBezTo>
                  <a:pt x="728" y="0"/>
                  <a:pt x="360" y="368"/>
                  <a:pt x="208" y="592"/>
                </a:cubicBezTo>
                <a:cubicBezTo>
                  <a:pt x="56" y="816"/>
                  <a:pt x="0" y="1240"/>
                  <a:pt x="16" y="1408"/>
                </a:cubicBezTo>
                <a:close/>
              </a:path>
            </a:pathLst>
          </a:custGeom>
          <a:noFill/>
          <a:ln w="25560">
            <a:solidFill>
              <a:srgbClr val="bbe0e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4038480"/>
            <a:ext cx="343080" cy="1067040"/>
          </a:xfrm>
          <a:custGeom>
            <a:avLst/>
            <a:gdLst/>
            <a:ahLst/>
            <a:rect l="l" t="t" r="r" b="b"/>
            <a:pathLst>
              <a:path w="216" h="672">
                <a:moveTo>
                  <a:pt x="0" y="0"/>
                </a:moveTo>
                <a:cubicBezTo>
                  <a:pt x="84" y="16"/>
                  <a:pt x="168" y="32"/>
                  <a:pt x="192" y="144"/>
                </a:cubicBezTo>
                <a:cubicBezTo>
                  <a:pt x="216" y="256"/>
                  <a:pt x="180" y="464"/>
                  <a:pt x="144" y="6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72400" y="3809880"/>
            <a:ext cx="990720" cy="4320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624" y="0"/>
                </a:moveTo>
                <a:cubicBezTo>
                  <a:pt x="460" y="104"/>
                  <a:pt x="296" y="208"/>
                  <a:pt x="192" y="240"/>
                </a:cubicBezTo>
                <a:cubicBezTo>
                  <a:pt x="88" y="272"/>
                  <a:pt x="44" y="232"/>
                  <a:pt x="0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5076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cycle edge e’ is not i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61920" y="2181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the edges of a connected graph have different weights, then the MS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38120" y="3538440"/>
            <a:ext cx="1861920" cy="2667240"/>
            <a:chOff x="438120" y="3538440"/>
            <a:chExt cx="1861920" cy="2667240"/>
          </a:xfrm>
        </p:grpSpPr>
        <p:sp>
          <p:nvSpPr>
            <p:cNvPr id="683" name=""/>
            <p:cNvSpPr/>
            <p:nvPr/>
          </p:nvSpPr>
          <p:spPr>
            <a:xfrm>
              <a:off x="1123920" y="4757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4800" y="3538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85680" y="5367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62000" y="4605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95320" y="5900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0400" y="4300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8120" y="5291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7"/>
              <a:endCxn id="684" idx="3"/>
            </p:cNvCxnSpPr>
            <p:nvPr/>
          </p:nvCxnSpPr>
          <p:spPr>
            <a:xfrm flipV="1">
              <a:off x="850320" y="3798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91" name=""/>
            <p:cNvCxnSpPr>
              <a:stCxn id="683" idx="6"/>
              <a:endCxn id="686" idx="2"/>
            </p:cNvCxnSpPr>
            <p:nvPr/>
          </p:nvCxnSpPr>
          <p:spPr>
            <a:xfrm flipV="1">
              <a:off x="1428480" y="4757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92" name=""/>
            <p:cNvCxnSpPr>
              <a:stCxn id="686" idx="0"/>
              <a:endCxn id="684" idx="5"/>
            </p:cNvCxnSpPr>
            <p:nvPr/>
          </p:nvCxnSpPr>
          <p:spPr>
            <a:xfrm flipH="1" flipV="1">
              <a:off x="1764720" y="3798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93" name=""/>
            <p:cNvCxnSpPr>
              <a:stCxn id="683" idx="3"/>
              <a:endCxn id="689" idx="7"/>
            </p:cNvCxnSpPr>
            <p:nvPr/>
          </p:nvCxnSpPr>
          <p:spPr>
            <a:xfrm flipH="1">
              <a:off x="697680" y="5018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94" name=""/>
            <p:cNvCxnSpPr>
              <a:stCxn id="683" idx="5"/>
              <a:endCxn id="685" idx="1"/>
            </p:cNvCxnSpPr>
            <p:nvPr/>
          </p:nvCxnSpPr>
          <p:spPr>
            <a:xfrm>
              <a:off x="1383840" y="501804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95" name=""/>
            <p:cNvCxnSpPr>
              <a:stCxn id="685" idx="0"/>
              <a:endCxn id="686" idx="4"/>
            </p:cNvCxnSpPr>
            <p:nvPr/>
          </p:nvCxnSpPr>
          <p:spPr>
            <a:xfrm flipV="1">
              <a:off x="2037960" y="490968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96" name=""/>
            <p:cNvCxnSpPr>
              <a:stCxn id="685" idx="3"/>
              <a:endCxn id="687" idx="7"/>
            </p:cNvCxnSpPr>
            <p:nvPr/>
          </p:nvCxnSpPr>
          <p:spPr>
            <a:xfrm flipH="1">
              <a:off x="1155240" y="5627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697" name=""/>
            <p:cNvCxnSpPr>
              <a:stCxn id="689" idx="0"/>
              <a:endCxn id="688" idx="4"/>
            </p:cNvCxnSpPr>
            <p:nvPr/>
          </p:nvCxnSpPr>
          <p:spPr>
            <a:xfrm flipV="1">
              <a:off x="590040" y="4604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698" name=""/>
            <p:cNvSpPr/>
            <p:nvPr/>
          </p:nvSpPr>
          <p:spPr>
            <a:xfrm>
              <a:off x="438120" y="4757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71280" y="3828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47600" y="3933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81120" y="4529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04800" y="573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0920" y="5091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71440" y="4971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04800" y="5138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38920" y="3619440"/>
            <a:ext cx="1861920" cy="2667240"/>
            <a:chOff x="6838920" y="3619440"/>
            <a:chExt cx="1861920" cy="2667240"/>
          </a:xfrm>
        </p:grpSpPr>
        <p:sp>
          <p:nvSpPr>
            <p:cNvPr id="707" name=""/>
            <p:cNvSpPr/>
            <p:nvPr/>
          </p:nvSpPr>
          <p:spPr>
            <a:xfrm>
              <a:off x="7524720" y="4838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05600" y="36194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86480" y="544824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62800" y="46864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96120" y="598176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91200" y="438156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38920" y="53722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4" name=""/>
            <p:cNvCxnSpPr>
              <a:stCxn id="712" idx="7"/>
              <a:endCxn id="708" idx="3"/>
            </p:cNvCxnSpPr>
            <p:nvPr/>
          </p:nvCxnSpPr>
          <p:spPr>
            <a:xfrm flipV="1">
              <a:off x="7251120" y="387972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715" name=""/>
            <p:cNvCxnSpPr>
              <a:stCxn id="707" idx="6"/>
              <a:endCxn id="710" idx="2"/>
            </p:cNvCxnSpPr>
            <p:nvPr/>
          </p:nvCxnSpPr>
          <p:spPr>
            <a:xfrm flipV="1">
              <a:off x="7829280" y="483804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716" name=""/>
            <p:cNvCxnSpPr>
              <a:stCxn id="710" idx="0"/>
              <a:endCxn id="708" idx="5"/>
            </p:cNvCxnSpPr>
            <p:nvPr/>
          </p:nvCxnSpPr>
          <p:spPr>
            <a:xfrm flipH="1" flipV="1">
              <a:off x="8165520" y="387972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717" name=""/>
            <p:cNvCxnSpPr>
              <a:stCxn id="707" idx="3"/>
              <a:endCxn id="713" idx="7"/>
            </p:cNvCxnSpPr>
            <p:nvPr/>
          </p:nvCxnSpPr>
          <p:spPr>
            <a:xfrm flipH="1">
              <a:off x="7098480" y="509904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718" name=""/>
            <p:cNvCxnSpPr>
              <a:stCxn id="707" idx="5"/>
              <a:endCxn id="709" idx="1"/>
            </p:cNvCxnSpPr>
            <p:nvPr/>
          </p:nvCxnSpPr>
          <p:spPr>
            <a:xfrm>
              <a:off x="7784640" y="5099040"/>
              <a:ext cx="546480" cy="3945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719" name=""/>
            <p:cNvCxnSpPr>
              <a:stCxn id="709" idx="0"/>
              <a:endCxn id="710" idx="4"/>
            </p:cNvCxnSpPr>
            <p:nvPr/>
          </p:nvCxnSpPr>
          <p:spPr>
            <a:xfrm flipV="1">
              <a:off x="8438760" y="4990680"/>
              <a:ext cx="76680" cy="4579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720" name=""/>
            <p:cNvCxnSpPr>
              <a:stCxn id="709" idx="3"/>
              <a:endCxn id="711" idx="7"/>
            </p:cNvCxnSpPr>
            <p:nvPr/>
          </p:nvCxnSpPr>
          <p:spPr>
            <a:xfrm flipH="1">
              <a:off x="7556040" y="570852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721" name=""/>
            <p:cNvCxnSpPr>
              <a:stCxn id="713" idx="0"/>
              <a:endCxn id="712" idx="4"/>
            </p:cNvCxnSpPr>
            <p:nvPr/>
          </p:nvCxnSpPr>
          <p:spPr>
            <a:xfrm flipV="1">
              <a:off x="6990840" y="468576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722" name=""/>
            <p:cNvSpPr/>
            <p:nvPr/>
          </p:nvSpPr>
          <p:spPr>
            <a:xfrm>
              <a:off x="6838920" y="4838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2080" y="3909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48400" y="401472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81920" y="46101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05600" y="5815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81720" y="51721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72240" y="50529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05600" y="521964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438280" y="340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existence of two M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29876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33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134120" y="626256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38280" y="38386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e be the minimal-weight edge not in both MSTs (wlog e in 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6353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 with e has 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03840" y="3327480"/>
            <a:ext cx="2400480" cy="2654280"/>
          </a:xfrm>
          <a:custGeom>
            <a:avLst/>
            <a:gdLst/>
            <a:ahLst/>
            <a:rect l="l" t="t" r="r" b="b"/>
            <a:pathLst>
              <a:path w="1512" h="1672">
                <a:moveTo>
                  <a:pt x="16" y="1408"/>
                </a:moveTo>
                <a:cubicBezTo>
                  <a:pt x="32" y="1576"/>
                  <a:pt x="72" y="1672"/>
                  <a:pt x="304" y="1600"/>
                </a:cubicBezTo>
                <a:cubicBezTo>
                  <a:pt x="536" y="1528"/>
                  <a:pt x="1304" y="1232"/>
                  <a:pt x="1408" y="976"/>
                </a:cubicBezTo>
                <a:cubicBezTo>
                  <a:pt x="1512" y="720"/>
                  <a:pt x="1128" y="128"/>
                  <a:pt x="928" y="64"/>
                </a:cubicBezTo>
                <a:cubicBezTo>
                  <a:pt x="728" y="0"/>
                  <a:pt x="360" y="368"/>
                  <a:pt x="208" y="592"/>
                </a:cubicBezTo>
                <a:cubicBezTo>
                  <a:pt x="56" y="816"/>
                  <a:pt x="0" y="1240"/>
                  <a:pt x="16" y="1408"/>
                </a:cubicBezTo>
                <a:close/>
              </a:path>
            </a:pathLst>
          </a:custGeom>
          <a:noFill/>
          <a:ln w="25560">
            <a:solidFill>
              <a:srgbClr val="bbe0e3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5076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cycle edge e’ is not i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4038480"/>
            <a:ext cx="343080" cy="1067040"/>
          </a:xfrm>
          <a:custGeom>
            <a:avLst/>
            <a:gdLst/>
            <a:ahLst/>
            <a:rect l="l" t="t" r="r" b="b"/>
            <a:pathLst>
              <a:path w="216" h="672">
                <a:moveTo>
                  <a:pt x="0" y="0"/>
                </a:moveTo>
                <a:cubicBezTo>
                  <a:pt x="84" y="16"/>
                  <a:pt x="168" y="32"/>
                  <a:pt x="192" y="144"/>
                </a:cubicBezTo>
                <a:cubicBezTo>
                  <a:pt x="216" y="256"/>
                  <a:pt x="180" y="464"/>
                  <a:pt x="144" y="6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772400" y="3809880"/>
            <a:ext cx="990720" cy="4320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624" y="0"/>
                </a:moveTo>
                <a:cubicBezTo>
                  <a:pt x="460" y="104"/>
                  <a:pt x="296" y="208"/>
                  <a:pt x="192" y="240"/>
                </a:cubicBezTo>
                <a:cubicBezTo>
                  <a:pt x="88" y="272"/>
                  <a:pt x="44" y="232"/>
                  <a:pt x="0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5519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w(e) &lt; w(e’) we conclude that T’ with e and without e’ is a smaller MST than 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3160" y="3986280"/>
            <a:ext cx="228600" cy="22860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 of Distributed 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8209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905040" y="2228760"/>
            <a:ext cx="54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fragments of one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747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4" name=""/>
            <p:cNvCxnSpPr>
              <a:stCxn id="752" idx="7"/>
              <a:endCxn id="748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5" name=""/>
            <p:cNvCxnSpPr>
              <a:stCxn id="747" idx="6"/>
              <a:endCxn id="750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0" idx="0"/>
              <a:endCxn id="748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47" idx="3"/>
              <a:endCxn id="753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47" idx="5"/>
              <a:endCxn id="749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>
              <a:stCxn id="749" idx="0"/>
              <a:endCxn id="750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0" name=""/>
            <p:cNvCxnSpPr>
              <a:stCxn id="749" idx="3"/>
              <a:endCxn id="751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1" name=""/>
            <p:cNvCxnSpPr>
              <a:stCxn id="753" idx="0"/>
              <a:endCxn id="752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2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538440" y="3390840"/>
            <a:ext cx="2028960" cy="3073320"/>
            <a:chOff x="3538440" y="3390840"/>
            <a:chExt cx="2028960" cy="3073320"/>
          </a:xfrm>
        </p:grpSpPr>
        <p:sp>
          <p:nvSpPr>
            <p:cNvPr id="771" name=""/>
            <p:cNvSpPr/>
            <p:nvPr/>
          </p:nvSpPr>
          <p:spPr>
            <a:xfrm>
              <a:off x="365760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8308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3844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4324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95792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720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272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782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9" name=""/>
            <p:cNvCxnSpPr>
              <a:stCxn id="787" idx="7"/>
              <a:endCxn id="783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0" name=""/>
            <p:cNvCxnSpPr>
              <a:stCxn id="782" idx="6"/>
              <a:endCxn id="785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1" name=""/>
            <p:cNvCxnSpPr>
              <a:stCxn id="785" idx="0"/>
              <a:endCxn id="783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2" name=""/>
            <p:cNvCxnSpPr>
              <a:stCxn id="782" idx="3"/>
              <a:endCxn id="788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2" idx="5"/>
              <a:endCxn id="784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84" idx="0"/>
              <a:endCxn id="785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5" name=""/>
            <p:cNvCxnSpPr>
              <a:stCxn id="784" idx="3"/>
              <a:endCxn id="786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6" name=""/>
            <p:cNvCxnSpPr>
              <a:stCxn id="788" idx="0"/>
              <a:endCxn id="787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7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538440" y="3390840"/>
            <a:ext cx="2028960" cy="3073320"/>
            <a:chOff x="3538440" y="3390840"/>
            <a:chExt cx="2028960" cy="3073320"/>
          </a:xfrm>
        </p:grpSpPr>
        <p:sp>
          <p:nvSpPr>
            <p:cNvPr id="806" name=""/>
            <p:cNvSpPr/>
            <p:nvPr/>
          </p:nvSpPr>
          <p:spPr>
            <a:xfrm>
              <a:off x="365760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8308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3844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4324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5792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6720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5272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819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6" name=""/>
            <p:cNvCxnSpPr>
              <a:stCxn id="824" idx="7"/>
              <a:endCxn id="820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7" name=""/>
            <p:cNvCxnSpPr>
              <a:stCxn id="819" idx="6"/>
              <a:endCxn id="822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828" name=""/>
            <p:cNvCxnSpPr>
              <a:stCxn id="822" idx="0"/>
              <a:endCxn id="820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9" name=""/>
            <p:cNvCxnSpPr>
              <a:stCxn id="819" idx="3"/>
              <a:endCxn id="825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0" name=""/>
            <p:cNvCxnSpPr>
              <a:stCxn id="819" idx="5"/>
              <a:endCxn id="821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1" idx="0"/>
              <a:endCxn id="822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1" idx="3"/>
              <a:endCxn id="823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5" idx="0"/>
              <a:endCxn id="824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38440" y="5105520"/>
            <a:ext cx="533520" cy="76176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43240" y="4695840"/>
            <a:ext cx="609840" cy="520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57920" y="4405320"/>
            <a:ext cx="609480" cy="7621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67200" y="5243400"/>
            <a:ext cx="652680" cy="67320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52720" y="5715000"/>
            <a:ext cx="711360" cy="7491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49560" y="4280040"/>
            <a:ext cx="1943280" cy="1003320"/>
          </a:xfrm>
          <a:custGeom>
            <a:avLst/>
            <a:gdLst/>
            <a:ahLst/>
            <a:rect l="l" t="t" r="r" b="b"/>
            <a:pathLst>
              <a:path w="1224" h="632">
                <a:moveTo>
                  <a:pt x="104" y="520"/>
                </a:moveTo>
                <a:cubicBezTo>
                  <a:pt x="64" y="480"/>
                  <a:pt x="0" y="432"/>
                  <a:pt x="56" y="376"/>
                </a:cubicBezTo>
                <a:cubicBezTo>
                  <a:pt x="112" y="320"/>
                  <a:pt x="288" y="240"/>
                  <a:pt x="440" y="184"/>
                </a:cubicBezTo>
                <a:cubicBezTo>
                  <a:pt x="592" y="128"/>
                  <a:pt x="856" y="0"/>
                  <a:pt x="968" y="40"/>
                </a:cubicBezTo>
                <a:cubicBezTo>
                  <a:pt x="1080" y="80"/>
                  <a:pt x="1224" y="328"/>
                  <a:pt x="1112" y="424"/>
                </a:cubicBezTo>
                <a:cubicBezTo>
                  <a:pt x="1000" y="520"/>
                  <a:pt x="464" y="600"/>
                  <a:pt x="296" y="616"/>
                </a:cubicBezTo>
                <a:cubicBezTo>
                  <a:pt x="128" y="632"/>
                  <a:pt x="144" y="560"/>
                  <a:pt x="104" y="5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856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3" name=""/>
            <p:cNvCxnSpPr>
              <a:stCxn id="861" idx="7"/>
              <a:endCxn id="857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56" idx="6"/>
              <a:endCxn id="859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865" name=""/>
            <p:cNvCxnSpPr>
              <a:stCxn id="859" idx="0"/>
              <a:endCxn id="857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6" name=""/>
            <p:cNvCxnSpPr>
              <a:stCxn id="856" idx="3"/>
              <a:endCxn id="862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7" name=""/>
            <p:cNvCxnSpPr>
              <a:stCxn id="856" idx="5"/>
              <a:endCxn id="858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8" idx="0"/>
              <a:endCxn id="859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9" name=""/>
            <p:cNvCxnSpPr>
              <a:stCxn id="858" idx="3"/>
              <a:endCxn id="860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870" name=""/>
            <p:cNvCxnSpPr>
              <a:stCxn id="862" idx="0"/>
              <a:endCxn id="861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1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38440" y="5105520"/>
            <a:ext cx="533520" cy="76176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67200" y="5243400"/>
            <a:ext cx="652680" cy="67320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52720" y="5715000"/>
            <a:ext cx="711360" cy="7491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949560" y="4280040"/>
            <a:ext cx="1943280" cy="1003320"/>
          </a:xfrm>
          <a:custGeom>
            <a:avLst/>
            <a:gdLst/>
            <a:ahLst/>
            <a:rect l="l" t="t" r="r" b="b"/>
            <a:pathLst>
              <a:path w="1224" h="632">
                <a:moveTo>
                  <a:pt x="104" y="520"/>
                </a:moveTo>
                <a:cubicBezTo>
                  <a:pt x="64" y="480"/>
                  <a:pt x="0" y="432"/>
                  <a:pt x="56" y="376"/>
                </a:cubicBezTo>
                <a:cubicBezTo>
                  <a:pt x="112" y="320"/>
                  <a:pt x="288" y="240"/>
                  <a:pt x="440" y="184"/>
                </a:cubicBezTo>
                <a:cubicBezTo>
                  <a:pt x="592" y="128"/>
                  <a:pt x="856" y="0"/>
                  <a:pt x="968" y="40"/>
                </a:cubicBezTo>
                <a:cubicBezTo>
                  <a:pt x="1080" y="80"/>
                  <a:pt x="1224" y="328"/>
                  <a:pt x="1112" y="424"/>
                </a:cubicBezTo>
                <a:cubicBezTo>
                  <a:pt x="1000" y="520"/>
                  <a:pt x="464" y="600"/>
                  <a:pt x="296" y="616"/>
                </a:cubicBezTo>
                <a:cubicBezTo>
                  <a:pt x="128" y="632"/>
                  <a:pt x="144" y="560"/>
                  <a:pt x="104" y="5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708360" y="5321160"/>
            <a:ext cx="2108160" cy="1155960"/>
          </a:xfrm>
          <a:custGeom>
            <a:avLst/>
            <a:gdLst/>
            <a:ahLst/>
            <a:rect l="l" t="t" r="r" b="b"/>
            <a:pathLst>
              <a:path w="1328" h="728">
                <a:moveTo>
                  <a:pt x="112" y="632"/>
                </a:moveTo>
                <a:cubicBezTo>
                  <a:pt x="72" y="568"/>
                  <a:pt x="0" y="400"/>
                  <a:pt x="160" y="296"/>
                </a:cubicBezTo>
                <a:cubicBezTo>
                  <a:pt x="320" y="192"/>
                  <a:pt x="896" y="0"/>
                  <a:pt x="1072" y="8"/>
                </a:cubicBezTo>
                <a:cubicBezTo>
                  <a:pt x="1248" y="16"/>
                  <a:pt x="1328" y="232"/>
                  <a:pt x="1216" y="344"/>
                </a:cubicBezTo>
                <a:cubicBezTo>
                  <a:pt x="1104" y="456"/>
                  <a:pt x="584" y="632"/>
                  <a:pt x="400" y="680"/>
                </a:cubicBezTo>
                <a:cubicBezTo>
                  <a:pt x="216" y="728"/>
                  <a:pt x="152" y="696"/>
                  <a:pt x="112" y="63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890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7" name=""/>
            <p:cNvCxnSpPr>
              <a:stCxn id="895" idx="7"/>
              <a:endCxn id="891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0" idx="6"/>
              <a:endCxn id="893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899" name=""/>
            <p:cNvCxnSpPr>
              <a:stCxn id="893" idx="0"/>
              <a:endCxn id="891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0" idx="3"/>
              <a:endCxn id="896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0" idx="5"/>
              <a:endCxn id="892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92" idx="0"/>
              <a:endCxn id="893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03" name=""/>
            <p:cNvCxnSpPr>
              <a:stCxn id="892" idx="3"/>
              <a:endCxn id="894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04" name=""/>
            <p:cNvCxnSpPr>
              <a:stCxn id="896" idx="0"/>
              <a:endCxn id="895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5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538440" y="5105520"/>
            <a:ext cx="533520" cy="76176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949560" y="4280040"/>
            <a:ext cx="1943280" cy="1003320"/>
          </a:xfrm>
          <a:custGeom>
            <a:avLst/>
            <a:gdLst/>
            <a:ahLst/>
            <a:rect l="l" t="t" r="r" b="b"/>
            <a:pathLst>
              <a:path w="1224" h="632">
                <a:moveTo>
                  <a:pt x="104" y="520"/>
                </a:moveTo>
                <a:cubicBezTo>
                  <a:pt x="64" y="480"/>
                  <a:pt x="0" y="432"/>
                  <a:pt x="56" y="376"/>
                </a:cubicBezTo>
                <a:cubicBezTo>
                  <a:pt x="112" y="320"/>
                  <a:pt x="288" y="240"/>
                  <a:pt x="440" y="184"/>
                </a:cubicBezTo>
                <a:cubicBezTo>
                  <a:pt x="592" y="128"/>
                  <a:pt x="856" y="0"/>
                  <a:pt x="968" y="40"/>
                </a:cubicBezTo>
                <a:cubicBezTo>
                  <a:pt x="1080" y="80"/>
                  <a:pt x="1224" y="328"/>
                  <a:pt x="1112" y="424"/>
                </a:cubicBezTo>
                <a:cubicBezTo>
                  <a:pt x="1000" y="520"/>
                  <a:pt x="464" y="600"/>
                  <a:pt x="296" y="616"/>
                </a:cubicBezTo>
                <a:cubicBezTo>
                  <a:pt x="128" y="632"/>
                  <a:pt x="144" y="560"/>
                  <a:pt x="104" y="5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08360" y="5321160"/>
            <a:ext cx="2108160" cy="1155960"/>
          </a:xfrm>
          <a:custGeom>
            <a:avLst/>
            <a:gdLst/>
            <a:ahLst/>
            <a:rect l="l" t="t" r="r" b="b"/>
            <a:pathLst>
              <a:path w="1328" h="728">
                <a:moveTo>
                  <a:pt x="112" y="632"/>
                </a:moveTo>
                <a:cubicBezTo>
                  <a:pt x="72" y="568"/>
                  <a:pt x="0" y="400"/>
                  <a:pt x="160" y="296"/>
                </a:cubicBezTo>
                <a:cubicBezTo>
                  <a:pt x="320" y="192"/>
                  <a:pt x="896" y="0"/>
                  <a:pt x="1072" y="8"/>
                </a:cubicBezTo>
                <a:cubicBezTo>
                  <a:pt x="1248" y="16"/>
                  <a:pt x="1328" y="232"/>
                  <a:pt x="1216" y="344"/>
                </a:cubicBezTo>
                <a:cubicBezTo>
                  <a:pt x="1104" y="456"/>
                  <a:pt x="584" y="632"/>
                  <a:pt x="400" y="680"/>
                </a:cubicBezTo>
                <a:cubicBezTo>
                  <a:pt x="216" y="728"/>
                  <a:pt x="152" y="696"/>
                  <a:pt x="112" y="63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24360" y="4317840"/>
            <a:ext cx="1942920" cy="2235240"/>
          </a:xfrm>
          <a:custGeom>
            <a:avLst/>
            <a:gdLst/>
            <a:ahLst/>
            <a:rect l="l" t="t" r="r" b="b"/>
            <a:pathLst>
              <a:path w="1368" h="1512">
                <a:moveTo>
                  <a:pt x="192" y="496"/>
                </a:moveTo>
                <a:cubicBezTo>
                  <a:pt x="136" y="664"/>
                  <a:pt x="0" y="1064"/>
                  <a:pt x="48" y="1216"/>
                </a:cubicBezTo>
                <a:cubicBezTo>
                  <a:pt x="96" y="1368"/>
                  <a:pt x="272" y="1512"/>
                  <a:pt x="480" y="1408"/>
                </a:cubicBezTo>
                <a:cubicBezTo>
                  <a:pt x="688" y="1304"/>
                  <a:pt x="1224" y="816"/>
                  <a:pt x="1296" y="592"/>
                </a:cubicBezTo>
                <a:cubicBezTo>
                  <a:pt x="1368" y="368"/>
                  <a:pt x="1064" y="128"/>
                  <a:pt x="912" y="64"/>
                </a:cubicBezTo>
                <a:cubicBezTo>
                  <a:pt x="760" y="0"/>
                  <a:pt x="504" y="136"/>
                  <a:pt x="384" y="208"/>
                </a:cubicBezTo>
                <a:cubicBezTo>
                  <a:pt x="264" y="280"/>
                  <a:pt x="248" y="328"/>
                  <a:pt x="192" y="49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925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2" name=""/>
            <p:cNvCxnSpPr>
              <a:stCxn id="930" idx="7"/>
              <a:endCxn id="926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3" name=""/>
            <p:cNvCxnSpPr>
              <a:stCxn id="925" idx="6"/>
              <a:endCxn id="928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34" name=""/>
            <p:cNvCxnSpPr>
              <a:stCxn id="928" idx="0"/>
              <a:endCxn id="926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5" name=""/>
            <p:cNvCxnSpPr>
              <a:stCxn id="925" idx="3"/>
              <a:endCxn id="931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36" name=""/>
            <p:cNvCxnSpPr>
              <a:stCxn id="925" idx="5"/>
              <a:endCxn id="927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27" idx="0"/>
              <a:endCxn id="928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38" name=""/>
            <p:cNvCxnSpPr>
              <a:stCxn id="927" idx="3"/>
              <a:endCxn id="929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39" name=""/>
            <p:cNvCxnSpPr>
              <a:stCxn id="931" idx="0"/>
              <a:endCxn id="930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38440" y="5105520"/>
            <a:ext cx="533520" cy="76176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24360" y="4317840"/>
            <a:ext cx="1942920" cy="2235240"/>
          </a:xfrm>
          <a:custGeom>
            <a:avLst/>
            <a:gdLst/>
            <a:ahLst/>
            <a:rect l="l" t="t" r="r" b="b"/>
            <a:pathLst>
              <a:path w="1368" h="1512">
                <a:moveTo>
                  <a:pt x="192" y="496"/>
                </a:moveTo>
                <a:cubicBezTo>
                  <a:pt x="136" y="664"/>
                  <a:pt x="0" y="1064"/>
                  <a:pt x="48" y="1216"/>
                </a:cubicBezTo>
                <a:cubicBezTo>
                  <a:pt x="96" y="1368"/>
                  <a:pt x="272" y="1512"/>
                  <a:pt x="480" y="1408"/>
                </a:cubicBezTo>
                <a:cubicBezTo>
                  <a:pt x="688" y="1304"/>
                  <a:pt x="1224" y="816"/>
                  <a:pt x="1296" y="592"/>
                </a:cubicBezTo>
                <a:cubicBezTo>
                  <a:pt x="1368" y="368"/>
                  <a:pt x="1064" y="128"/>
                  <a:pt x="912" y="64"/>
                </a:cubicBezTo>
                <a:cubicBezTo>
                  <a:pt x="760" y="0"/>
                  <a:pt x="504" y="136"/>
                  <a:pt x="384" y="208"/>
                </a:cubicBezTo>
                <a:cubicBezTo>
                  <a:pt x="264" y="280"/>
                  <a:pt x="248" y="328"/>
                  <a:pt x="192" y="49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403440" y="4343400"/>
            <a:ext cx="2692440" cy="2108160"/>
          </a:xfrm>
          <a:custGeom>
            <a:avLst/>
            <a:gdLst/>
            <a:ahLst/>
            <a:rect l="l" t="t" r="r" b="b"/>
            <a:pathLst>
              <a:path w="1696" h="1328">
                <a:moveTo>
                  <a:pt x="256" y="480"/>
                </a:moveTo>
                <a:cubicBezTo>
                  <a:pt x="400" y="336"/>
                  <a:pt x="648" y="96"/>
                  <a:pt x="880" y="48"/>
                </a:cubicBezTo>
                <a:cubicBezTo>
                  <a:pt x="1112" y="0"/>
                  <a:pt x="1600" y="16"/>
                  <a:pt x="1648" y="192"/>
                </a:cubicBezTo>
                <a:cubicBezTo>
                  <a:pt x="1696" y="368"/>
                  <a:pt x="1384" y="920"/>
                  <a:pt x="1168" y="1104"/>
                </a:cubicBezTo>
                <a:cubicBezTo>
                  <a:pt x="952" y="1288"/>
                  <a:pt x="544" y="1328"/>
                  <a:pt x="352" y="1296"/>
                </a:cubicBezTo>
                <a:cubicBezTo>
                  <a:pt x="160" y="1264"/>
                  <a:pt x="32" y="1048"/>
                  <a:pt x="16" y="912"/>
                </a:cubicBezTo>
                <a:cubicBezTo>
                  <a:pt x="0" y="776"/>
                  <a:pt x="112" y="624"/>
                  <a:pt x="256" y="48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959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4" idx="7"/>
              <a:endCxn id="960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59" idx="6"/>
              <a:endCxn id="962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68" name=""/>
            <p:cNvCxnSpPr>
              <a:stCxn id="962" idx="0"/>
              <a:endCxn id="960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69" name=""/>
            <p:cNvCxnSpPr>
              <a:stCxn id="959" idx="3"/>
              <a:endCxn id="965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70" name=""/>
            <p:cNvCxnSpPr>
              <a:stCxn id="959" idx="5"/>
              <a:endCxn id="961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61" idx="0"/>
              <a:endCxn id="962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72" name=""/>
            <p:cNvCxnSpPr>
              <a:stCxn id="961" idx="3"/>
              <a:endCxn id="963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973" name=""/>
            <p:cNvCxnSpPr>
              <a:stCxn id="965" idx="0"/>
              <a:endCxn id="964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4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403440" y="4343400"/>
            <a:ext cx="2692440" cy="2108160"/>
          </a:xfrm>
          <a:custGeom>
            <a:avLst/>
            <a:gdLst/>
            <a:ahLst/>
            <a:rect l="l" t="t" r="r" b="b"/>
            <a:pathLst>
              <a:path w="1696" h="1328">
                <a:moveTo>
                  <a:pt x="256" y="480"/>
                </a:moveTo>
                <a:cubicBezTo>
                  <a:pt x="400" y="336"/>
                  <a:pt x="648" y="96"/>
                  <a:pt x="880" y="48"/>
                </a:cubicBezTo>
                <a:cubicBezTo>
                  <a:pt x="1112" y="0"/>
                  <a:pt x="1600" y="16"/>
                  <a:pt x="1648" y="192"/>
                </a:cubicBezTo>
                <a:cubicBezTo>
                  <a:pt x="1696" y="368"/>
                  <a:pt x="1384" y="920"/>
                  <a:pt x="1168" y="1104"/>
                </a:cubicBezTo>
                <a:cubicBezTo>
                  <a:pt x="952" y="1288"/>
                  <a:pt x="544" y="1328"/>
                  <a:pt x="352" y="1296"/>
                </a:cubicBezTo>
                <a:cubicBezTo>
                  <a:pt x="160" y="1264"/>
                  <a:pt x="32" y="1048"/>
                  <a:pt x="16" y="912"/>
                </a:cubicBezTo>
                <a:cubicBezTo>
                  <a:pt x="0" y="776"/>
                  <a:pt x="112" y="624"/>
                  <a:pt x="256" y="48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62240" y="3276720"/>
            <a:ext cx="2692440" cy="3467160"/>
          </a:xfrm>
          <a:custGeom>
            <a:avLst/>
            <a:gdLst/>
            <a:ahLst/>
            <a:rect l="l" t="t" r="r" b="b"/>
            <a:pathLst>
              <a:path w="1696" h="2184">
                <a:moveTo>
                  <a:pt x="792" y="336"/>
                </a:moveTo>
                <a:cubicBezTo>
                  <a:pt x="760" y="464"/>
                  <a:pt x="944" y="616"/>
                  <a:pt x="840" y="768"/>
                </a:cubicBezTo>
                <a:cubicBezTo>
                  <a:pt x="736" y="920"/>
                  <a:pt x="272" y="1056"/>
                  <a:pt x="168" y="1248"/>
                </a:cubicBezTo>
                <a:cubicBezTo>
                  <a:pt x="64" y="1440"/>
                  <a:pt x="0" y="1808"/>
                  <a:pt x="216" y="1920"/>
                </a:cubicBezTo>
                <a:cubicBezTo>
                  <a:pt x="432" y="2032"/>
                  <a:pt x="1232" y="2184"/>
                  <a:pt x="1464" y="1920"/>
                </a:cubicBezTo>
                <a:cubicBezTo>
                  <a:pt x="1696" y="1656"/>
                  <a:pt x="1680" y="656"/>
                  <a:pt x="1608" y="336"/>
                </a:cubicBezTo>
                <a:cubicBezTo>
                  <a:pt x="1536" y="16"/>
                  <a:pt x="1168" y="0"/>
                  <a:pt x="1032" y="0"/>
                </a:cubicBezTo>
                <a:cubicBezTo>
                  <a:pt x="896" y="0"/>
                  <a:pt x="824" y="208"/>
                  <a:pt x="792" y="33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992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7"/>
              <a:endCxn id="993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2" idx="6"/>
              <a:endCxn id="995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01" name=""/>
            <p:cNvCxnSpPr>
              <a:stCxn id="995" idx="0"/>
              <a:endCxn id="993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02" name=""/>
            <p:cNvCxnSpPr>
              <a:stCxn id="992" idx="3"/>
              <a:endCxn id="998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03" name=""/>
            <p:cNvCxnSpPr>
              <a:stCxn id="992" idx="5"/>
              <a:endCxn id="994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4" name=""/>
            <p:cNvCxnSpPr>
              <a:stCxn id="994" idx="0"/>
              <a:endCxn id="995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05" name=""/>
            <p:cNvCxnSpPr>
              <a:stCxn id="994" idx="3"/>
              <a:endCxn id="996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06" name=""/>
            <p:cNvCxnSpPr>
              <a:stCxn id="998" idx="0"/>
              <a:endCxn id="997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of MST based on properties 1 &amp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905040" y="222876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 fragments in any order (propert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65760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914400" y="2709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fragments with a commo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914400" y="3200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perty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162240" y="3276720"/>
            <a:ext cx="2692440" cy="3467160"/>
          </a:xfrm>
          <a:custGeom>
            <a:avLst/>
            <a:gdLst/>
            <a:ahLst/>
            <a:rect l="l" t="t" r="r" b="b"/>
            <a:pathLst>
              <a:path w="1696" h="2184">
                <a:moveTo>
                  <a:pt x="792" y="336"/>
                </a:moveTo>
                <a:cubicBezTo>
                  <a:pt x="760" y="464"/>
                  <a:pt x="944" y="616"/>
                  <a:pt x="840" y="768"/>
                </a:cubicBezTo>
                <a:cubicBezTo>
                  <a:pt x="736" y="920"/>
                  <a:pt x="272" y="1056"/>
                  <a:pt x="168" y="1248"/>
                </a:cubicBezTo>
                <a:cubicBezTo>
                  <a:pt x="64" y="1440"/>
                  <a:pt x="0" y="1808"/>
                  <a:pt x="216" y="1920"/>
                </a:cubicBezTo>
                <a:cubicBezTo>
                  <a:pt x="432" y="2032"/>
                  <a:pt x="1232" y="2184"/>
                  <a:pt x="1464" y="1920"/>
                </a:cubicBezTo>
                <a:cubicBezTo>
                  <a:pt x="1696" y="1656"/>
                  <a:pt x="1680" y="656"/>
                  <a:pt x="1608" y="336"/>
                </a:cubicBezTo>
                <a:cubicBezTo>
                  <a:pt x="1536" y="16"/>
                  <a:pt x="1168" y="0"/>
                  <a:pt x="1032" y="0"/>
                </a:cubicBezTo>
                <a:cubicBezTo>
                  <a:pt x="896" y="0"/>
                  <a:pt x="824" y="208"/>
                  <a:pt x="792" y="33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352680" y="3251160"/>
            <a:ext cx="2718000" cy="3365640"/>
          </a:xfrm>
          <a:custGeom>
            <a:avLst/>
            <a:gdLst/>
            <a:ahLst/>
            <a:rect l="l" t="t" r="r" b="b"/>
            <a:pathLst>
              <a:path w="1712" h="2120">
                <a:moveTo>
                  <a:pt x="672" y="208"/>
                </a:moveTo>
                <a:cubicBezTo>
                  <a:pt x="472" y="288"/>
                  <a:pt x="192" y="440"/>
                  <a:pt x="96" y="688"/>
                </a:cubicBezTo>
                <a:cubicBezTo>
                  <a:pt x="0" y="936"/>
                  <a:pt x="24" y="1464"/>
                  <a:pt x="96" y="1696"/>
                </a:cubicBezTo>
                <a:cubicBezTo>
                  <a:pt x="168" y="1928"/>
                  <a:pt x="280" y="2120"/>
                  <a:pt x="528" y="2080"/>
                </a:cubicBezTo>
                <a:cubicBezTo>
                  <a:pt x="776" y="2040"/>
                  <a:pt x="1456" y="1768"/>
                  <a:pt x="1584" y="1456"/>
                </a:cubicBezTo>
                <a:cubicBezTo>
                  <a:pt x="1712" y="1144"/>
                  <a:pt x="1448" y="416"/>
                  <a:pt x="1296" y="208"/>
                </a:cubicBezTo>
                <a:cubicBezTo>
                  <a:pt x="1144" y="0"/>
                  <a:pt x="872" y="128"/>
                  <a:pt x="672" y="20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 of Distributed 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5800" y="28209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1028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5" name=""/>
            <p:cNvCxnSpPr>
              <a:stCxn id="1033" idx="7"/>
              <a:endCxn id="1029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31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37" name=""/>
            <p:cNvCxnSpPr>
              <a:stCxn id="1031" idx="0"/>
              <a:endCxn id="1029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28" idx="3"/>
              <a:endCxn id="1034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9" name=""/>
            <p:cNvCxnSpPr>
              <a:stCxn id="1028" idx="5"/>
              <a:endCxn id="1030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0" name=""/>
            <p:cNvCxnSpPr>
              <a:stCxn id="1030" idx="0"/>
              <a:endCxn id="1031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41" name=""/>
            <p:cNvCxnSpPr>
              <a:stCxn id="1030" idx="3"/>
              <a:endCxn id="1032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42" name=""/>
            <p:cNvCxnSpPr>
              <a:stCxn id="1034" idx="0"/>
              <a:endCxn id="1033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043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416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4457880"/>
            <a:ext cx="1828800" cy="1904760"/>
          </a:xfrm>
          <a:custGeom>
            <a:avLst/>
            <a:gdLst/>
            <a:ahLst/>
            <a:rect l="l" t="t" r="r" b="b"/>
            <a:pathLst>
              <a:path w="1200" h="1200">
                <a:moveTo>
                  <a:pt x="240" y="216"/>
                </a:moveTo>
                <a:cubicBezTo>
                  <a:pt x="104" y="280"/>
                  <a:pt x="184" y="376"/>
                  <a:pt x="240" y="456"/>
                </a:cubicBezTo>
                <a:cubicBezTo>
                  <a:pt x="296" y="536"/>
                  <a:pt x="600" y="616"/>
                  <a:pt x="576" y="696"/>
                </a:cubicBezTo>
                <a:cubicBezTo>
                  <a:pt x="552" y="776"/>
                  <a:pt x="176" y="856"/>
                  <a:pt x="96" y="936"/>
                </a:cubicBezTo>
                <a:cubicBezTo>
                  <a:pt x="16" y="1016"/>
                  <a:pt x="0" y="1152"/>
                  <a:pt x="96" y="1176"/>
                </a:cubicBezTo>
                <a:cubicBezTo>
                  <a:pt x="192" y="1200"/>
                  <a:pt x="504" y="1176"/>
                  <a:pt x="672" y="1080"/>
                </a:cubicBezTo>
                <a:cubicBezTo>
                  <a:pt x="840" y="984"/>
                  <a:pt x="1040" y="768"/>
                  <a:pt x="1104" y="600"/>
                </a:cubicBezTo>
                <a:cubicBezTo>
                  <a:pt x="1168" y="432"/>
                  <a:pt x="1200" y="144"/>
                  <a:pt x="1056" y="72"/>
                </a:cubicBezTo>
                <a:cubicBezTo>
                  <a:pt x="912" y="0"/>
                  <a:pt x="376" y="152"/>
                  <a:pt x="24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node starts as a single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 of Distributed 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8209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1058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5" name=""/>
            <p:cNvCxnSpPr>
              <a:stCxn id="1063" idx="7"/>
              <a:endCxn id="1059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6" name=""/>
            <p:cNvCxnSpPr>
              <a:stCxn id="1058" idx="6"/>
              <a:endCxn id="1061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67" name=""/>
            <p:cNvCxnSpPr>
              <a:stCxn id="1061" idx="0"/>
              <a:endCxn id="1059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8" name=""/>
            <p:cNvCxnSpPr>
              <a:stCxn id="1058" idx="3"/>
              <a:endCxn id="1064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</a:ln>
          </p:spPr>
        </p:cxnSp>
        <p:cxnSp>
          <p:nvCxnSpPr>
            <p:cNvPr id="1069" name=""/>
            <p:cNvCxnSpPr>
              <a:stCxn id="1058" idx="5"/>
              <a:endCxn id="1060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0" name=""/>
            <p:cNvCxnSpPr>
              <a:stCxn id="1060" idx="0"/>
              <a:endCxn id="1061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71" name=""/>
            <p:cNvCxnSpPr>
              <a:stCxn id="1060" idx="3"/>
              <a:endCxn id="1062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72" name=""/>
            <p:cNvCxnSpPr>
              <a:stCxn id="1064" idx="0"/>
              <a:endCxn id="1063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073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ragment finds its minimum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416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62520" y="4457880"/>
            <a:ext cx="1828800" cy="1904760"/>
          </a:xfrm>
          <a:custGeom>
            <a:avLst/>
            <a:gdLst/>
            <a:ahLst/>
            <a:rect l="l" t="t" r="r" b="b"/>
            <a:pathLst>
              <a:path w="1200" h="1200">
                <a:moveTo>
                  <a:pt x="240" y="216"/>
                </a:moveTo>
                <a:cubicBezTo>
                  <a:pt x="104" y="280"/>
                  <a:pt x="184" y="376"/>
                  <a:pt x="240" y="456"/>
                </a:cubicBezTo>
                <a:cubicBezTo>
                  <a:pt x="296" y="536"/>
                  <a:pt x="600" y="616"/>
                  <a:pt x="576" y="696"/>
                </a:cubicBezTo>
                <a:cubicBezTo>
                  <a:pt x="552" y="776"/>
                  <a:pt x="176" y="856"/>
                  <a:pt x="96" y="936"/>
                </a:cubicBezTo>
                <a:cubicBezTo>
                  <a:pt x="16" y="1016"/>
                  <a:pt x="0" y="1152"/>
                  <a:pt x="96" y="1176"/>
                </a:cubicBezTo>
                <a:cubicBezTo>
                  <a:pt x="192" y="1200"/>
                  <a:pt x="504" y="1176"/>
                  <a:pt x="672" y="1080"/>
                </a:cubicBezTo>
                <a:cubicBezTo>
                  <a:pt x="840" y="984"/>
                  <a:pt x="1040" y="768"/>
                  <a:pt x="1104" y="600"/>
                </a:cubicBezTo>
                <a:cubicBezTo>
                  <a:pt x="1168" y="432"/>
                  <a:pt x="1200" y="144"/>
                  <a:pt x="1056" y="72"/>
                </a:cubicBezTo>
                <a:cubicBezTo>
                  <a:pt x="912" y="0"/>
                  <a:pt x="376" y="152"/>
                  <a:pt x="24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1088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5" name=""/>
            <p:cNvCxnSpPr>
              <a:stCxn id="1093" idx="7"/>
              <a:endCxn id="1089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6" name=""/>
            <p:cNvCxnSpPr>
              <a:stCxn id="1088" idx="6"/>
              <a:endCxn id="1091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097" name=""/>
            <p:cNvCxnSpPr>
              <a:stCxn id="1091" idx="0"/>
              <a:endCxn id="1089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8" name=""/>
            <p:cNvCxnSpPr>
              <a:stCxn id="1088" idx="3"/>
              <a:endCxn id="1094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</a:ln>
          </p:spPr>
        </p:cxnSp>
        <p:cxnSp>
          <p:nvCxnSpPr>
            <p:cNvPr id="1099" name=""/>
            <p:cNvCxnSpPr>
              <a:stCxn id="1088" idx="5"/>
              <a:endCxn id="1090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0" name=""/>
            <p:cNvCxnSpPr>
              <a:stCxn id="1090" idx="0"/>
              <a:endCxn id="1091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101" name=""/>
            <p:cNvCxnSpPr>
              <a:stCxn id="1090" idx="3"/>
              <a:endCxn id="1092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102" name=""/>
            <p:cNvCxnSpPr>
              <a:stCxn id="1094" idx="0"/>
              <a:endCxn id="1093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103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483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ragment finds its minimum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16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62520" y="4457880"/>
            <a:ext cx="1828800" cy="1904760"/>
          </a:xfrm>
          <a:custGeom>
            <a:avLst/>
            <a:gdLst/>
            <a:ahLst/>
            <a:rect l="l" t="t" r="r" b="b"/>
            <a:pathLst>
              <a:path w="1200" h="1200">
                <a:moveTo>
                  <a:pt x="240" y="216"/>
                </a:moveTo>
                <a:cubicBezTo>
                  <a:pt x="104" y="280"/>
                  <a:pt x="184" y="376"/>
                  <a:pt x="240" y="456"/>
                </a:cubicBezTo>
                <a:cubicBezTo>
                  <a:pt x="296" y="536"/>
                  <a:pt x="600" y="616"/>
                  <a:pt x="576" y="696"/>
                </a:cubicBezTo>
                <a:cubicBezTo>
                  <a:pt x="552" y="776"/>
                  <a:pt x="176" y="856"/>
                  <a:pt x="96" y="936"/>
                </a:cubicBezTo>
                <a:cubicBezTo>
                  <a:pt x="16" y="1016"/>
                  <a:pt x="0" y="1152"/>
                  <a:pt x="96" y="1176"/>
                </a:cubicBezTo>
                <a:cubicBezTo>
                  <a:pt x="192" y="1200"/>
                  <a:pt x="504" y="1176"/>
                  <a:pt x="672" y="1080"/>
                </a:cubicBezTo>
                <a:cubicBezTo>
                  <a:pt x="840" y="984"/>
                  <a:pt x="1040" y="768"/>
                  <a:pt x="1104" y="600"/>
                </a:cubicBezTo>
                <a:cubicBezTo>
                  <a:pt x="1168" y="432"/>
                  <a:pt x="1200" y="144"/>
                  <a:pt x="1056" y="72"/>
                </a:cubicBezTo>
                <a:cubicBezTo>
                  <a:pt x="912" y="0"/>
                  <a:pt x="376" y="152"/>
                  <a:pt x="24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2709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tries to combine with the adjacent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060720" y="3657600"/>
            <a:ext cx="2946240" cy="2857680"/>
          </a:xfrm>
          <a:custGeom>
            <a:avLst/>
            <a:gdLst/>
            <a:ahLst/>
            <a:rect l="l" t="t" r="r" b="b"/>
            <a:pathLst>
              <a:path w="1856" h="1800">
                <a:moveTo>
                  <a:pt x="184" y="680"/>
                </a:moveTo>
                <a:cubicBezTo>
                  <a:pt x="256" y="472"/>
                  <a:pt x="360" y="112"/>
                  <a:pt x="520" y="56"/>
                </a:cubicBezTo>
                <a:cubicBezTo>
                  <a:pt x="680" y="0"/>
                  <a:pt x="936" y="296"/>
                  <a:pt x="1144" y="344"/>
                </a:cubicBezTo>
                <a:cubicBezTo>
                  <a:pt x="1352" y="392"/>
                  <a:pt x="1680" y="168"/>
                  <a:pt x="1768" y="344"/>
                </a:cubicBezTo>
                <a:cubicBezTo>
                  <a:pt x="1856" y="520"/>
                  <a:pt x="1848" y="1160"/>
                  <a:pt x="1672" y="1400"/>
                </a:cubicBezTo>
                <a:cubicBezTo>
                  <a:pt x="1496" y="1640"/>
                  <a:pt x="976" y="1800"/>
                  <a:pt x="712" y="1784"/>
                </a:cubicBezTo>
                <a:cubicBezTo>
                  <a:pt x="448" y="1768"/>
                  <a:pt x="176" y="1488"/>
                  <a:pt x="88" y="1304"/>
                </a:cubicBezTo>
                <a:cubicBezTo>
                  <a:pt x="0" y="1120"/>
                  <a:pt x="112" y="888"/>
                  <a:pt x="184" y="680"/>
                </a:cubicBezTo>
                <a:close/>
              </a:path>
            </a:pathLst>
          </a:custGeom>
          <a:solidFill>
            <a:srgbClr val="ff9900">
              <a:alpha val="25000"/>
            </a:srgbClr>
          </a:solidFill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ragment has an associated level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mpact on combining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05040" y="320040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gment with a single node is defin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914400" y="368604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t level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bination of two fragments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s of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3352680" y="3390840"/>
            <a:ext cx="2743200" cy="2971800"/>
            <a:chOff x="3352680" y="3390840"/>
            <a:chExt cx="2743200" cy="2971800"/>
          </a:xfrm>
        </p:grpSpPr>
        <p:grpSp>
          <p:nvGrpSpPr>
            <p:cNvPr id="1130" name=""/>
            <p:cNvGrpSpPr/>
            <p:nvPr/>
          </p:nvGrpSpPr>
          <p:grpSpPr>
            <a:xfrm>
              <a:off x="3625920" y="3581280"/>
              <a:ext cx="1861920" cy="2667240"/>
              <a:chOff x="3625920" y="3581280"/>
              <a:chExt cx="1861920" cy="2667240"/>
            </a:xfrm>
          </p:grpSpPr>
          <p:sp>
            <p:nvSpPr>
              <p:cNvPr id="1131" name=""/>
              <p:cNvSpPr/>
              <p:nvPr/>
            </p:nvSpPr>
            <p:spPr>
              <a:xfrm>
                <a:off x="4311720" y="4800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92600" y="35812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73480" y="54100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149800" y="4648320"/>
                <a:ext cx="30492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083120" y="5943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778200" y="434340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625920" y="5334120"/>
                <a:ext cx="30456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8" name=""/>
              <p:cNvCxnSpPr>
                <a:stCxn id="1136" idx="7"/>
                <a:endCxn id="1132" idx="3"/>
              </p:cNvCxnSpPr>
              <p:nvPr/>
            </p:nvCxnSpPr>
            <p:spPr>
              <a:xfrm flipV="1">
                <a:off x="4038120" y="3841560"/>
                <a:ext cx="699480" cy="54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9" name=""/>
              <p:cNvCxnSpPr>
                <a:stCxn id="1131" idx="6"/>
                <a:endCxn id="1134" idx="2"/>
              </p:cNvCxnSpPr>
              <p:nvPr/>
            </p:nvCxnSpPr>
            <p:spPr>
              <a:xfrm flipV="1">
                <a:off x="4616280" y="4799880"/>
                <a:ext cx="534240" cy="15300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40" name=""/>
              <p:cNvCxnSpPr>
                <a:stCxn id="1134" idx="0"/>
                <a:endCxn id="1132" idx="5"/>
              </p:cNvCxnSpPr>
              <p:nvPr/>
            </p:nvCxnSpPr>
            <p:spPr>
              <a:xfrm flipH="1" flipV="1">
                <a:off x="4952520" y="3841560"/>
                <a:ext cx="349920" cy="80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1" name=""/>
              <p:cNvCxnSpPr>
                <a:stCxn id="1131" idx="3"/>
                <a:endCxn id="1137" idx="7"/>
              </p:cNvCxnSpPr>
              <p:nvPr/>
            </p:nvCxnSpPr>
            <p:spPr>
              <a:xfrm flipH="1">
                <a:off x="3885480" y="5060880"/>
                <a:ext cx="470520" cy="31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2" name=""/>
              <p:cNvCxnSpPr>
                <a:stCxn id="1131" idx="5"/>
                <a:endCxn id="1133" idx="1"/>
              </p:cNvCxnSpPr>
              <p:nvPr/>
            </p:nvCxnSpPr>
            <p:spPr>
              <a:xfrm>
                <a:off x="4571640" y="5060880"/>
                <a:ext cx="546480" cy="39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3" name=""/>
              <p:cNvCxnSpPr>
                <a:stCxn id="1133" idx="0"/>
                <a:endCxn id="1134" idx="4"/>
              </p:cNvCxnSpPr>
              <p:nvPr/>
            </p:nvCxnSpPr>
            <p:spPr>
              <a:xfrm flipV="1">
                <a:off x="5225760" y="4952520"/>
                <a:ext cx="76680" cy="4579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44" name=""/>
              <p:cNvCxnSpPr>
                <a:stCxn id="1133" idx="3"/>
                <a:endCxn id="1135" idx="7"/>
              </p:cNvCxnSpPr>
              <p:nvPr/>
            </p:nvCxnSpPr>
            <p:spPr>
              <a:xfrm flipH="1">
                <a:off x="4343040" y="5670360"/>
                <a:ext cx="77544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45" name=""/>
              <p:cNvCxnSpPr>
                <a:stCxn id="1137" idx="0"/>
                <a:endCxn id="1136" idx="4"/>
              </p:cNvCxnSpPr>
              <p:nvPr/>
            </p:nvCxnSpPr>
            <p:spPr>
              <a:xfrm flipV="1">
                <a:off x="3777840" y="4647600"/>
                <a:ext cx="153000" cy="6865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sp>
            <p:nvSpPr>
              <p:cNvPr id="1146" name=""/>
              <p:cNvSpPr/>
              <p:nvPr/>
            </p:nvSpPr>
            <p:spPr>
              <a:xfrm>
                <a:off x="3625920" y="48006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159080" y="3871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135400" y="397656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68920" y="45720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692600" y="57769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68720" y="513396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59240" y="5014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692600" y="518148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448308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16400" y="4076640"/>
              <a:ext cx="787320" cy="1905120"/>
            </a:xfrm>
            <a:custGeom>
              <a:avLst/>
              <a:gdLst/>
              <a:ahLst/>
              <a:rect l="l" t="t" r="r" b="b"/>
              <a:pathLst>
                <a:path w="496" h="1200">
                  <a:moveTo>
                    <a:pt x="248" y="120"/>
                  </a:moveTo>
                  <a:cubicBezTo>
                    <a:pt x="328" y="0"/>
                    <a:pt x="480" y="8"/>
                    <a:pt x="488" y="168"/>
                  </a:cubicBezTo>
                  <a:cubicBezTo>
                    <a:pt x="496" y="328"/>
                    <a:pt x="376" y="960"/>
                    <a:pt x="296" y="1080"/>
                  </a:cubicBezTo>
                  <a:cubicBezTo>
                    <a:pt x="216" y="1200"/>
                    <a:pt x="16" y="1048"/>
                    <a:pt x="8" y="888"/>
                  </a:cubicBezTo>
                  <a:cubicBezTo>
                    <a:pt x="0" y="728"/>
                    <a:pt x="168" y="240"/>
                    <a:pt x="248" y="12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62520" y="4457880"/>
              <a:ext cx="1828800" cy="190476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240" y="216"/>
                  </a:moveTo>
                  <a:cubicBezTo>
                    <a:pt x="104" y="280"/>
                    <a:pt x="184" y="376"/>
                    <a:pt x="240" y="456"/>
                  </a:cubicBezTo>
                  <a:cubicBezTo>
                    <a:pt x="296" y="536"/>
                    <a:pt x="600" y="616"/>
                    <a:pt x="576" y="696"/>
                  </a:cubicBezTo>
                  <a:cubicBezTo>
                    <a:pt x="552" y="776"/>
                    <a:pt x="176" y="856"/>
                    <a:pt x="96" y="936"/>
                  </a:cubicBezTo>
                  <a:cubicBezTo>
                    <a:pt x="16" y="1016"/>
                    <a:pt x="0" y="1152"/>
                    <a:pt x="96" y="1176"/>
                  </a:cubicBezTo>
                  <a:cubicBezTo>
                    <a:pt x="192" y="1200"/>
                    <a:pt x="504" y="1176"/>
                    <a:pt x="672" y="1080"/>
                  </a:cubicBezTo>
                  <a:cubicBezTo>
                    <a:pt x="840" y="984"/>
                    <a:pt x="1040" y="768"/>
                    <a:pt x="1104" y="600"/>
                  </a:cubicBezTo>
                  <a:cubicBezTo>
                    <a:pt x="1168" y="432"/>
                    <a:pt x="1200" y="144"/>
                    <a:pt x="1056" y="72"/>
                  </a:cubicBezTo>
                  <a:cubicBezTo>
                    <a:pt x="912" y="0"/>
                    <a:pt x="376" y="152"/>
                    <a:pt x="240" y="21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52680" y="4267080"/>
              <a:ext cx="304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91320" y="502920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9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bination of two fragments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s of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5334120" y="3390840"/>
            <a:ext cx="3200400" cy="2971800"/>
            <a:chOff x="5334120" y="3390840"/>
            <a:chExt cx="3200400" cy="2971800"/>
          </a:xfrm>
        </p:grpSpPr>
        <p:grpSp>
          <p:nvGrpSpPr>
            <p:cNvPr id="1164" name=""/>
            <p:cNvGrpSpPr/>
            <p:nvPr/>
          </p:nvGrpSpPr>
          <p:grpSpPr>
            <a:xfrm>
              <a:off x="5911920" y="3581280"/>
              <a:ext cx="1861920" cy="2667240"/>
              <a:chOff x="5911920" y="3581280"/>
              <a:chExt cx="1861920" cy="2667240"/>
            </a:xfrm>
          </p:grpSpPr>
          <p:sp>
            <p:nvSpPr>
              <p:cNvPr id="1165" name=""/>
              <p:cNvSpPr/>
              <p:nvPr/>
            </p:nvSpPr>
            <p:spPr>
              <a:xfrm>
                <a:off x="6597720" y="4800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78600" y="35812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359480" y="54100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435800" y="4648320"/>
                <a:ext cx="30492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369120" y="5943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064200" y="434340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11920" y="5334120"/>
                <a:ext cx="30456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2" name=""/>
              <p:cNvCxnSpPr>
                <a:stCxn id="1170" idx="7"/>
                <a:endCxn id="1166" idx="3"/>
              </p:cNvCxnSpPr>
              <p:nvPr/>
            </p:nvCxnSpPr>
            <p:spPr>
              <a:xfrm flipV="1">
                <a:off x="6324120" y="3841560"/>
                <a:ext cx="699480" cy="54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3" name=""/>
              <p:cNvCxnSpPr>
                <a:stCxn id="1165" idx="6"/>
                <a:endCxn id="1168" idx="2"/>
              </p:cNvCxnSpPr>
              <p:nvPr/>
            </p:nvCxnSpPr>
            <p:spPr>
              <a:xfrm flipV="1">
                <a:off x="6902280" y="4799880"/>
                <a:ext cx="534240" cy="15300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74" name=""/>
              <p:cNvCxnSpPr>
                <a:stCxn id="1168" idx="0"/>
                <a:endCxn id="1166" idx="5"/>
              </p:cNvCxnSpPr>
              <p:nvPr/>
            </p:nvCxnSpPr>
            <p:spPr>
              <a:xfrm flipH="1" flipV="1">
                <a:off x="7238520" y="3841560"/>
                <a:ext cx="349920" cy="80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5" name=""/>
              <p:cNvCxnSpPr>
                <a:stCxn id="1165" idx="3"/>
                <a:endCxn id="1171" idx="7"/>
              </p:cNvCxnSpPr>
              <p:nvPr/>
            </p:nvCxnSpPr>
            <p:spPr>
              <a:xfrm flipH="1">
                <a:off x="6171480" y="5060880"/>
                <a:ext cx="470520" cy="317880"/>
              </a:xfrm>
              <a:prstGeom prst="straightConnector1">
                <a:avLst/>
              </a:prstGeom>
              <a:ln w="38160">
                <a:solidFill>
                  <a:srgbClr val="ff6600"/>
                </a:solidFill>
                <a:miter/>
                <a:headEnd len="med" type="arrow" w="med"/>
              </a:ln>
            </p:spPr>
          </p:cxnSp>
          <p:cxnSp>
            <p:nvCxnSpPr>
              <p:cNvPr id="1176" name=""/>
              <p:cNvCxnSpPr>
                <a:stCxn id="1165" idx="5"/>
                <a:endCxn id="1167" idx="1"/>
              </p:cNvCxnSpPr>
              <p:nvPr/>
            </p:nvCxnSpPr>
            <p:spPr>
              <a:xfrm>
                <a:off x="6857640" y="5060880"/>
                <a:ext cx="546480" cy="39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7" name=""/>
              <p:cNvCxnSpPr>
                <a:stCxn id="1167" idx="0"/>
                <a:endCxn id="1168" idx="4"/>
              </p:cNvCxnSpPr>
              <p:nvPr/>
            </p:nvCxnSpPr>
            <p:spPr>
              <a:xfrm flipV="1">
                <a:off x="7511760" y="4952520"/>
                <a:ext cx="76680" cy="4579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78" name=""/>
              <p:cNvCxnSpPr>
                <a:stCxn id="1167" idx="3"/>
                <a:endCxn id="1169" idx="7"/>
              </p:cNvCxnSpPr>
              <p:nvPr/>
            </p:nvCxnSpPr>
            <p:spPr>
              <a:xfrm flipH="1">
                <a:off x="6629040" y="5670360"/>
                <a:ext cx="77544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179" name=""/>
              <p:cNvCxnSpPr>
                <a:stCxn id="1171" idx="0"/>
                <a:endCxn id="1170" idx="4"/>
              </p:cNvCxnSpPr>
              <p:nvPr/>
            </p:nvCxnSpPr>
            <p:spPr>
              <a:xfrm flipV="1">
                <a:off x="6063840" y="4647600"/>
                <a:ext cx="153000" cy="6865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sp>
            <p:nvSpPr>
              <p:cNvPr id="1180" name=""/>
              <p:cNvSpPr/>
              <p:nvPr/>
            </p:nvSpPr>
            <p:spPr>
              <a:xfrm>
                <a:off x="5911920" y="48006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445080" y="3871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21400" y="397656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54920" y="45720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78600" y="57769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54720" y="513396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45240" y="5014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978600" y="518148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676908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02400" y="4076640"/>
              <a:ext cx="787320" cy="1905120"/>
            </a:xfrm>
            <a:custGeom>
              <a:avLst/>
              <a:gdLst/>
              <a:ahLst/>
              <a:rect l="l" t="t" r="r" b="b"/>
              <a:pathLst>
                <a:path w="496" h="1200">
                  <a:moveTo>
                    <a:pt x="248" y="120"/>
                  </a:moveTo>
                  <a:cubicBezTo>
                    <a:pt x="328" y="0"/>
                    <a:pt x="480" y="8"/>
                    <a:pt x="488" y="168"/>
                  </a:cubicBezTo>
                  <a:cubicBezTo>
                    <a:pt x="496" y="328"/>
                    <a:pt x="376" y="960"/>
                    <a:pt x="296" y="1080"/>
                  </a:cubicBezTo>
                  <a:cubicBezTo>
                    <a:pt x="216" y="1200"/>
                    <a:pt x="16" y="1048"/>
                    <a:pt x="8" y="888"/>
                  </a:cubicBezTo>
                  <a:cubicBezTo>
                    <a:pt x="0" y="728"/>
                    <a:pt x="168" y="240"/>
                    <a:pt x="248" y="12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48520" y="4457880"/>
              <a:ext cx="1828800" cy="190476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240" y="216"/>
                  </a:moveTo>
                  <a:cubicBezTo>
                    <a:pt x="104" y="280"/>
                    <a:pt x="184" y="376"/>
                    <a:pt x="240" y="456"/>
                  </a:cubicBezTo>
                  <a:cubicBezTo>
                    <a:pt x="296" y="536"/>
                    <a:pt x="600" y="616"/>
                    <a:pt x="576" y="696"/>
                  </a:cubicBezTo>
                  <a:cubicBezTo>
                    <a:pt x="552" y="776"/>
                    <a:pt x="176" y="856"/>
                    <a:pt x="96" y="936"/>
                  </a:cubicBezTo>
                  <a:cubicBezTo>
                    <a:pt x="16" y="1016"/>
                    <a:pt x="0" y="1152"/>
                    <a:pt x="96" y="1176"/>
                  </a:cubicBezTo>
                  <a:cubicBezTo>
                    <a:pt x="192" y="1200"/>
                    <a:pt x="504" y="1176"/>
                    <a:pt x="672" y="1080"/>
                  </a:cubicBezTo>
                  <a:cubicBezTo>
                    <a:pt x="840" y="984"/>
                    <a:pt x="1040" y="768"/>
                    <a:pt x="1104" y="600"/>
                  </a:cubicBezTo>
                  <a:cubicBezTo>
                    <a:pt x="1168" y="432"/>
                    <a:pt x="1200" y="144"/>
                    <a:pt x="1056" y="72"/>
                  </a:cubicBezTo>
                  <a:cubicBezTo>
                    <a:pt x="912" y="0"/>
                    <a:pt x="376" y="152"/>
                    <a:pt x="240" y="21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334120" y="449568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01000" y="525780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’=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38680" y="4267080"/>
              <a:ext cx="304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077320" y="502920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914400" y="35035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ragment F wishes to connect to a fragment F’ and L &lt; L’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bination of two fragments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s of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5911920" y="3581280"/>
            <a:ext cx="1861920" cy="2667240"/>
            <a:chOff x="5911920" y="3581280"/>
            <a:chExt cx="1861920" cy="2667240"/>
          </a:xfrm>
        </p:grpSpPr>
        <p:sp>
          <p:nvSpPr>
            <p:cNvPr id="1201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8" name=""/>
            <p:cNvCxnSpPr>
              <a:stCxn id="1206" idx="7"/>
              <a:endCxn id="1202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9" name=""/>
            <p:cNvCxnSpPr>
              <a:stCxn id="1201" idx="6"/>
              <a:endCxn id="1204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10" name=""/>
            <p:cNvCxnSpPr>
              <a:stCxn id="1204" idx="0"/>
              <a:endCxn id="1202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1" name=""/>
            <p:cNvCxnSpPr>
              <a:stCxn id="1201" idx="3"/>
              <a:endCxn id="1207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</a:ln>
          </p:spPr>
        </p:cxnSp>
        <p:cxnSp>
          <p:nvCxnSpPr>
            <p:cNvPr id="1212" name=""/>
            <p:cNvCxnSpPr>
              <a:stCxn id="1201" idx="5"/>
              <a:endCxn id="1203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3" name=""/>
            <p:cNvCxnSpPr>
              <a:stCxn id="1203" idx="0"/>
              <a:endCxn id="1204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14" name=""/>
            <p:cNvCxnSpPr>
              <a:stCxn id="1203" idx="3"/>
              <a:endCxn id="1205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15" name=""/>
            <p:cNvCxnSpPr>
              <a:stCxn id="1207" idx="0"/>
              <a:endCxn id="1206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216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6769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702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248520" y="4457880"/>
            <a:ext cx="1828800" cy="1904760"/>
          </a:xfrm>
          <a:custGeom>
            <a:avLst/>
            <a:gdLst/>
            <a:ahLst/>
            <a:rect l="l" t="t" r="r" b="b"/>
            <a:pathLst>
              <a:path w="1200" h="1200">
                <a:moveTo>
                  <a:pt x="240" y="216"/>
                </a:moveTo>
                <a:cubicBezTo>
                  <a:pt x="104" y="280"/>
                  <a:pt x="184" y="376"/>
                  <a:pt x="240" y="456"/>
                </a:cubicBezTo>
                <a:cubicBezTo>
                  <a:pt x="296" y="536"/>
                  <a:pt x="600" y="616"/>
                  <a:pt x="576" y="696"/>
                </a:cubicBezTo>
                <a:cubicBezTo>
                  <a:pt x="552" y="776"/>
                  <a:pt x="176" y="856"/>
                  <a:pt x="96" y="936"/>
                </a:cubicBezTo>
                <a:cubicBezTo>
                  <a:pt x="16" y="1016"/>
                  <a:pt x="0" y="1152"/>
                  <a:pt x="96" y="1176"/>
                </a:cubicBezTo>
                <a:cubicBezTo>
                  <a:pt x="192" y="1200"/>
                  <a:pt x="504" y="1176"/>
                  <a:pt x="672" y="1080"/>
                </a:cubicBezTo>
                <a:cubicBezTo>
                  <a:pt x="840" y="984"/>
                  <a:pt x="1040" y="768"/>
                  <a:pt x="1104" y="600"/>
                </a:cubicBezTo>
                <a:cubicBezTo>
                  <a:pt x="1168" y="432"/>
                  <a:pt x="1200" y="144"/>
                  <a:pt x="1056" y="72"/>
                </a:cubicBezTo>
                <a:cubicBezTo>
                  <a:pt x="912" y="0"/>
                  <a:pt x="376" y="152"/>
                  <a:pt x="24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34120" y="44956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001000" y="52578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638680" y="42670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77320" y="50292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914400" y="35035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ragment F wishes to connect to a fragment F’ and L &lt; L’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48466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is absorbed in F’ and the resulting fragment is at level L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753160" y="4025880"/>
            <a:ext cx="2527200" cy="2654280"/>
          </a:xfrm>
          <a:custGeom>
            <a:avLst/>
            <a:gdLst/>
            <a:ahLst/>
            <a:rect l="l" t="t" r="r" b="b"/>
            <a:pathLst>
              <a:path w="1592" h="1672">
                <a:moveTo>
                  <a:pt x="24" y="824"/>
                </a:moveTo>
                <a:cubicBezTo>
                  <a:pt x="0" y="648"/>
                  <a:pt x="104" y="560"/>
                  <a:pt x="120" y="440"/>
                </a:cubicBezTo>
                <a:cubicBezTo>
                  <a:pt x="136" y="320"/>
                  <a:pt x="40" y="168"/>
                  <a:pt x="120" y="104"/>
                </a:cubicBezTo>
                <a:cubicBezTo>
                  <a:pt x="200" y="40"/>
                  <a:pt x="360" y="0"/>
                  <a:pt x="600" y="56"/>
                </a:cubicBezTo>
                <a:cubicBezTo>
                  <a:pt x="840" y="112"/>
                  <a:pt x="1528" y="200"/>
                  <a:pt x="1560" y="440"/>
                </a:cubicBezTo>
                <a:cubicBezTo>
                  <a:pt x="1592" y="680"/>
                  <a:pt x="1008" y="1320"/>
                  <a:pt x="792" y="1496"/>
                </a:cubicBezTo>
                <a:cubicBezTo>
                  <a:pt x="576" y="1672"/>
                  <a:pt x="392" y="1608"/>
                  <a:pt x="264" y="1496"/>
                </a:cubicBezTo>
                <a:cubicBezTo>
                  <a:pt x="136" y="1384"/>
                  <a:pt x="48" y="1000"/>
                  <a:pt x="24" y="824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bination of two fragments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s of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5911920" y="3581280"/>
            <a:ext cx="1861920" cy="2667240"/>
            <a:chOff x="5911920" y="3581280"/>
            <a:chExt cx="1861920" cy="2667240"/>
          </a:xfrm>
        </p:grpSpPr>
        <p:sp>
          <p:nvSpPr>
            <p:cNvPr id="1239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6" name=""/>
            <p:cNvCxnSpPr>
              <a:stCxn id="1244" idx="7"/>
              <a:endCxn id="1240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7" name=""/>
            <p:cNvCxnSpPr>
              <a:stCxn id="1239" idx="6"/>
              <a:endCxn id="1242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48" name=""/>
            <p:cNvCxnSpPr>
              <a:stCxn id="1242" idx="0"/>
              <a:endCxn id="1240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9" name=""/>
            <p:cNvCxnSpPr>
              <a:stCxn id="1239" idx="3"/>
              <a:endCxn id="1245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50" name=""/>
            <p:cNvCxnSpPr>
              <a:stCxn id="1239" idx="5"/>
              <a:endCxn id="1241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1" name=""/>
            <p:cNvCxnSpPr>
              <a:stCxn id="1241" idx="0"/>
              <a:endCxn id="1242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2" name=""/>
            <p:cNvCxnSpPr>
              <a:stCxn id="1241" idx="3"/>
              <a:endCxn id="1243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3" name=""/>
            <p:cNvCxnSpPr>
              <a:stCxn id="1245" idx="0"/>
              <a:endCxn id="1244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254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6769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702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34120" y="44956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924680" y="46483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638680" y="42670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8153280" y="44197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914400" y="35035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ragments F and F’ have the same minimum outgoing edge and L = L’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362640" y="4457880"/>
            <a:ext cx="1562040" cy="838080"/>
          </a:xfrm>
          <a:custGeom>
            <a:avLst/>
            <a:gdLst/>
            <a:ahLst/>
            <a:rect l="l" t="t" r="r" b="b"/>
            <a:pathLst>
              <a:path w="984" h="528">
                <a:moveTo>
                  <a:pt x="120" y="216"/>
                </a:moveTo>
                <a:cubicBezTo>
                  <a:pt x="0" y="296"/>
                  <a:pt x="48" y="480"/>
                  <a:pt x="120" y="504"/>
                </a:cubicBezTo>
                <a:cubicBezTo>
                  <a:pt x="192" y="528"/>
                  <a:pt x="416" y="384"/>
                  <a:pt x="552" y="360"/>
                </a:cubicBezTo>
                <a:cubicBezTo>
                  <a:pt x="688" y="336"/>
                  <a:pt x="888" y="416"/>
                  <a:pt x="936" y="360"/>
                </a:cubicBezTo>
                <a:cubicBezTo>
                  <a:pt x="984" y="304"/>
                  <a:pt x="976" y="48"/>
                  <a:pt x="840" y="24"/>
                </a:cubicBezTo>
                <a:cubicBezTo>
                  <a:pt x="704" y="0"/>
                  <a:pt x="240" y="136"/>
                  <a:pt x="12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bination of two fragments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s of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5911920" y="3581280"/>
            <a:ext cx="1861920" cy="2667240"/>
            <a:chOff x="5911920" y="3581280"/>
            <a:chExt cx="1861920" cy="2667240"/>
          </a:xfrm>
        </p:grpSpPr>
        <p:sp>
          <p:nvSpPr>
            <p:cNvPr id="1275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2" name=""/>
            <p:cNvCxnSpPr>
              <a:stCxn id="1280" idx="7"/>
              <a:endCxn id="1276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3" name=""/>
            <p:cNvCxnSpPr>
              <a:stCxn id="1275" idx="6"/>
              <a:endCxn id="1278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84" name=""/>
            <p:cNvCxnSpPr>
              <a:stCxn id="1278" idx="0"/>
              <a:endCxn id="1276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5" name=""/>
            <p:cNvCxnSpPr>
              <a:stCxn id="1275" idx="3"/>
              <a:endCxn id="1281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286" name=""/>
            <p:cNvCxnSpPr>
              <a:stCxn id="1275" idx="5"/>
              <a:endCxn id="1277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7" name=""/>
            <p:cNvCxnSpPr>
              <a:stCxn id="1277" idx="0"/>
              <a:endCxn id="1278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8" name=""/>
            <p:cNvCxnSpPr>
              <a:stCxn id="1277" idx="3"/>
              <a:endCxn id="1279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9" name=""/>
            <p:cNvCxnSpPr>
              <a:stCxn id="1281" idx="0"/>
              <a:endCxn id="1280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290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6769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702400" y="4076640"/>
            <a:ext cx="787320" cy="190512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334120" y="44956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924680" y="46483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638680" y="42670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8153280" y="44197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914400" y="35035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ragments F and F’ have the same minimum outgoing edge and L = L’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362640" y="4457880"/>
            <a:ext cx="1562040" cy="838080"/>
          </a:xfrm>
          <a:custGeom>
            <a:avLst/>
            <a:gdLst/>
            <a:ahLst/>
            <a:rect l="l" t="t" r="r" b="b"/>
            <a:pathLst>
              <a:path w="984" h="528">
                <a:moveTo>
                  <a:pt x="120" y="216"/>
                </a:moveTo>
                <a:cubicBezTo>
                  <a:pt x="0" y="296"/>
                  <a:pt x="48" y="480"/>
                  <a:pt x="120" y="504"/>
                </a:cubicBezTo>
                <a:cubicBezTo>
                  <a:pt x="192" y="528"/>
                  <a:pt x="416" y="384"/>
                  <a:pt x="552" y="360"/>
                </a:cubicBezTo>
                <a:cubicBezTo>
                  <a:pt x="688" y="336"/>
                  <a:pt x="888" y="416"/>
                  <a:pt x="936" y="360"/>
                </a:cubicBezTo>
                <a:cubicBezTo>
                  <a:pt x="984" y="304"/>
                  <a:pt x="976" y="48"/>
                  <a:pt x="840" y="24"/>
                </a:cubicBezTo>
                <a:cubicBezTo>
                  <a:pt x="704" y="0"/>
                  <a:pt x="240" y="136"/>
                  <a:pt x="12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914400" y="48434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gments combine into a new fragment F’’ at level L’’ = L+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8229600" y="449568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’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305920" y="42670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613480" y="4165560"/>
            <a:ext cx="2552760" cy="1752480"/>
          </a:xfrm>
          <a:custGeom>
            <a:avLst/>
            <a:gdLst/>
            <a:ahLst/>
            <a:rect l="l" t="t" r="r" b="b"/>
            <a:pathLst>
              <a:path w="1608" h="1104">
                <a:moveTo>
                  <a:pt x="208" y="112"/>
                </a:moveTo>
                <a:cubicBezTo>
                  <a:pt x="128" y="176"/>
                  <a:pt x="32" y="248"/>
                  <a:pt x="16" y="400"/>
                </a:cubicBezTo>
                <a:cubicBezTo>
                  <a:pt x="0" y="552"/>
                  <a:pt x="24" y="944"/>
                  <a:pt x="112" y="1024"/>
                </a:cubicBezTo>
                <a:cubicBezTo>
                  <a:pt x="200" y="1104"/>
                  <a:pt x="424" y="952"/>
                  <a:pt x="544" y="880"/>
                </a:cubicBezTo>
                <a:cubicBezTo>
                  <a:pt x="664" y="808"/>
                  <a:pt x="672" y="640"/>
                  <a:pt x="832" y="592"/>
                </a:cubicBezTo>
                <a:cubicBezTo>
                  <a:pt x="992" y="544"/>
                  <a:pt x="1400" y="672"/>
                  <a:pt x="1504" y="592"/>
                </a:cubicBezTo>
                <a:cubicBezTo>
                  <a:pt x="1608" y="512"/>
                  <a:pt x="1592" y="176"/>
                  <a:pt x="1456" y="112"/>
                </a:cubicBezTo>
                <a:cubicBezTo>
                  <a:pt x="1320" y="48"/>
                  <a:pt x="848" y="224"/>
                  <a:pt x="688" y="208"/>
                </a:cubicBezTo>
                <a:cubicBezTo>
                  <a:pt x="528" y="192"/>
                  <a:pt x="576" y="32"/>
                  <a:pt x="496" y="16"/>
                </a:cubicBezTo>
                <a:cubicBezTo>
                  <a:pt x="416" y="0"/>
                  <a:pt x="288" y="48"/>
                  <a:pt x="208" y="11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ntity of a fragment is the weight of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5911920" y="3581280"/>
            <a:ext cx="1861920" cy="2667240"/>
            <a:chOff x="5911920" y="3581280"/>
            <a:chExt cx="1861920" cy="2667240"/>
          </a:xfrm>
        </p:grpSpPr>
        <p:sp>
          <p:nvSpPr>
            <p:cNvPr id="1314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1" name=""/>
            <p:cNvCxnSpPr>
              <a:stCxn id="1319" idx="7"/>
              <a:endCxn id="1315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2" name=""/>
            <p:cNvCxnSpPr>
              <a:stCxn id="1314" idx="6"/>
              <a:endCxn id="1317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323" name=""/>
            <p:cNvCxnSpPr>
              <a:stCxn id="1317" idx="0"/>
              <a:endCxn id="1315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4" name=""/>
            <p:cNvCxnSpPr>
              <a:stCxn id="1314" idx="3"/>
              <a:endCxn id="1320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325" name=""/>
            <p:cNvCxnSpPr>
              <a:stCxn id="1314" idx="5"/>
              <a:endCxn id="1316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6" name=""/>
            <p:cNvCxnSpPr>
              <a:stCxn id="1316" idx="0"/>
              <a:endCxn id="1317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7" name=""/>
            <p:cNvCxnSpPr>
              <a:stCxn id="1316" idx="3"/>
              <a:endCxn id="1318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8" name=""/>
            <p:cNvCxnSpPr>
              <a:stCxn id="1320" idx="0"/>
              <a:endCxn id="1319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329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6769080" y="3390840"/>
            <a:ext cx="71136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3503520"/>
            <a:ext cx="42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ragments F and F’ with same level were combined, the combining edge is called the core of the new se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8229600" y="449568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’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8305920" y="42670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613480" y="4165560"/>
            <a:ext cx="2552760" cy="1752480"/>
          </a:xfrm>
          <a:custGeom>
            <a:avLst/>
            <a:gdLst/>
            <a:ahLst/>
            <a:rect l="l" t="t" r="r" b="b"/>
            <a:pathLst>
              <a:path w="1608" h="1104">
                <a:moveTo>
                  <a:pt x="208" y="112"/>
                </a:moveTo>
                <a:cubicBezTo>
                  <a:pt x="128" y="176"/>
                  <a:pt x="32" y="248"/>
                  <a:pt x="16" y="400"/>
                </a:cubicBezTo>
                <a:cubicBezTo>
                  <a:pt x="0" y="552"/>
                  <a:pt x="24" y="944"/>
                  <a:pt x="112" y="1024"/>
                </a:cubicBezTo>
                <a:cubicBezTo>
                  <a:pt x="200" y="1104"/>
                  <a:pt x="424" y="952"/>
                  <a:pt x="544" y="880"/>
                </a:cubicBezTo>
                <a:cubicBezTo>
                  <a:pt x="664" y="808"/>
                  <a:pt x="672" y="640"/>
                  <a:pt x="832" y="592"/>
                </a:cubicBezTo>
                <a:cubicBezTo>
                  <a:pt x="992" y="544"/>
                  <a:pt x="1400" y="672"/>
                  <a:pt x="1504" y="592"/>
                </a:cubicBezTo>
                <a:cubicBezTo>
                  <a:pt x="1608" y="512"/>
                  <a:pt x="1592" y="176"/>
                  <a:pt x="1456" y="112"/>
                </a:cubicBezTo>
                <a:cubicBezTo>
                  <a:pt x="1320" y="48"/>
                  <a:pt x="848" y="224"/>
                  <a:pt x="688" y="208"/>
                </a:cubicBezTo>
                <a:cubicBezTo>
                  <a:pt x="528" y="192"/>
                  <a:pt x="576" y="32"/>
                  <a:pt x="496" y="16"/>
                </a:cubicBezTo>
                <a:cubicBezTo>
                  <a:pt x="416" y="0"/>
                  <a:pt x="288" y="48"/>
                  <a:pt x="208" y="11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029200" y="6172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19920" y="5334120"/>
            <a:ext cx="30456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0" y="672"/>
                </a:moveTo>
                <a:cubicBezTo>
                  <a:pt x="56" y="656"/>
                  <a:pt x="112" y="640"/>
                  <a:pt x="144" y="528"/>
                </a:cubicBezTo>
                <a:cubicBezTo>
                  <a:pt x="176" y="416"/>
                  <a:pt x="184" y="208"/>
                  <a:pt x="19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idea of Distributed M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has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66760" y="3276720"/>
            <a:ext cx="6834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uring fragment’s search for a minimal outgo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therwise (when a minimal outgoing edge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1600200"/>
            <a:ext cx="7086600" cy="1681200"/>
            <a:chOff x="685800" y="1600200"/>
            <a:chExt cx="7086600" cy="1681200"/>
          </a:xfrm>
        </p:grpSpPr>
        <p:sp>
          <p:nvSpPr>
            <p:cNvPr id="54" name=""/>
            <p:cNvSpPr/>
            <p:nvPr/>
          </p:nvSpPr>
          <p:spPr>
            <a:xfrm>
              <a:off x="685800" y="1600200"/>
              <a:ext cx="55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33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bl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2514600" y="2209680"/>
            <a:ext cx="1943280" cy="57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194328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905040" y="222876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grap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728800"/>
              <a:ext cx="556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ry edge has a w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4749840" y="2706840"/>
            <a:ext cx="3022560" cy="57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9840" y="2706840"/>
                      <a:ext cx="30225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62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7" idx="7"/>
              <a:endCxn id="63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"/>
            <p:cNvCxnSpPr>
              <a:stCxn id="62" idx="6"/>
              <a:endCxn id="65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"/>
            <p:cNvCxnSpPr>
              <a:stCxn id="65" idx="0"/>
              <a:endCxn id="63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2" idx="3"/>
              <a:endCxn id="68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2" idx="5"/>
              <a:endCxn id="64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4" idx="0"/>
              <a:endCxn id="65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4" idx="3"/>
              <a:endCxn id="66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8" idx="0"/>
              <a:endCxn id="67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 of Distributed 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28209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sp>
          <p:nvSpPr>
            <p:cNvPr id="1354" name=""/>
            <p:cNvSpPr/>
            <p:nvPr/>
          </p:nvSpPr>
          <p:spPr>
            <a:xfrm>
              <a:off x="593892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6440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976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2456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23924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4852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13404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07240" y="3581280"/>
            <a:ext cx="1861920" cy="2667240"/>
            <a:chOff x="5907240" y="3581280"/>
            <a:chExt cx="1861920" cy="2667240"/>
          </a:xfrm>
        </p:grpSpPr>
        <p:sp>
          <p:nvSpPr>
            <p:cNvPr id="1362" name=""/>
            <p:cNvSpPr/>
            <p:nvPr/>
          </p:nvSpPr>
          <p:spPr>
            <a:xfrm>
              <a:off x="659304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7392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5480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3112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6444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0724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9" name=""/>
            <p:cNvCxnSpPr>
              <a:stCxn id="1367" idx="7"/>
              <a:endCxn id="1363" idx="3"/>
            </p:cNvCxnSpPr>
            <p:nvPr/>
          </p:nvCxnSpPr>
          <p:spPr>
            <a:xfrm flipV="1">
              <a:off x="631944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0" name=""/>
            <p:cNvCxnSpPr>
              <a:stCxn id="1362" idx="6"/>
              <a:endCxn id="1365" idx="2"/>
            </p:cNvCxnSpPr>
            <p:nvPr/>
          </p:nvCxnSpPr>
          <p:spPr>
            <a:xfrm flipV="1">
              <a:off x="689760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1" name=""/>
            <p:cNvCxnSpPr>
              <a:stCxn id="1365" idx="0"/>
              <a:endCxn id="1363" idx="5"/>
            </p:cNvCxnSpPr>
            <p:nvPr/>
          </p:nvCxnSpPr>
          <p:spPr>
            <a:xfrm flipH="1" flipV="1">
              <a:off x="723384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2" name=""/>
            <p:cNvCxnSpPr>
              <a:stCxn id="1362" idx="3"/>
              <a:endCxn id="1368" idx="7"/>
            </p:cNvCxnSpPr>
            <p:nvPr/>
          </p:nvCxnSpPr>
          <p:spPr>
            <a:xfrm flipH="1">
              <a:off x="616680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3" name=""/>
            <p:cNvCxnSpPr>
              <a:stCxn id="1362" idx="5"/>
              <a:endCxn id="1364" idx="1"/>
            </p:cNvCxnSpPr>
            <p:nvPr/>
          </p:nvCxnSpPr>
          <p:spPr>
            <a:xfrm>
              <a:off x="685296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4" name=""/>
            <p:cNvCxnSpPr>
              <a:stCxn id="1364" idx="0"/>
              <a:endCxn id="1365" idx="4"/>
            </p:cNvCxnSpPr>
            <p:nvPr/>
          </p:nvCxnSpPr>
          <p:spPr>
            <a:xfrm flipV="1">
              <a:off x="750708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5" name=""/>
            <p:cNvCxnSpPr>
              <a:stCxn id="1364" idx="3"/>
              <a:endCxn id="1366" idx="7"/>
            </p:cNvCxnSpPr>
            <p:nvPr/>
          </p:nvCxnSpPr>
          <p:spPr>
            <a:xfrm flipH="1">
              <a:off x="662436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6" name=""/>
            <p:cNvCxnSpPr>
              <a:stCxn id="1368" idx="0"/>
              <a:endCxn id="1367" idx="4"/>
            </p:cNvCxnSpPr>
            <p:nvPr/>
          </p:nvCxnSpPr>
          <p:spPr>
            <a:xfrm flipV="1">
              <a:off x="605916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7" name=""/>
            <p:cNvSpPr/>
            <p:nvPr/>
          </p:nvSpPr>
          <p:spPr>
            <a:xfrm>
              <a:off x="590724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4040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672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05024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392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5004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54056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392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1600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se of zero-level frag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938920" y="4191120"/>
            <a:ext cx="685800" cy="647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19760" y="5105520"/>
            <a:ext cx="533520" cy="76176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424560" y="4695840"/>
            <a:ext cx="609480" cy="520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238880" y="4405320"/>
            <a:ext cx="609840" cy="7621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148520" y="5243400"/>
            <a:ext cx="652320" cy="67320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134040" y="5715000"/>
            <a:ext cx="711360" cy="7491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sp>
          <p:nvSpPr>
            <p:cNvPr id="1396" name=""/>
            <p:cNvSpPr/>
            <p:nvPr/>
          </p:nvSpPr>
          <p:spPr>
            <a:xfrm>
              <a:off x="593892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76440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976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2456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3924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4852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3404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5907240" y="3581280"/>
            <a:ext cx="1861920" cy="2667240"/>
            <a:chOff x="5907240" y="3581280"/>
            <a:chExt cx="1861920" cy="2667240"/>
          </a:xfrm>
        </p:grpSpPr>
        <p:sp>
          <p:nvSpPr>
            <p:cNvPr id="1404" name=""/>
            <p:cNvSpPr/>
            <p:nvPr/>
          </p:nvSpPr>
          <p:spPr>
            <a:xfrm>
              <a:off x="6593040" y="4800600"/>
              <a:ext cx="304560" cy="304920"/>
            </a:xfrm>
            <a:prstGeom prst="ellipse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392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35480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3112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36444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05952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90724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1" name=""/>
            <p:cNvCxnSpPr>
              <a:stCxn id="1409" idx="7"/>
              <a:endCxn id="1405" idx="3"/>
            </p:cNvCxnSpPr>
            <p:nvPr/>
          </p:nvCxnSpPr>
          <p:spPr>
            <a:xfrm flipV="1">
              <a:off x="631944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2" name=""/>
            <p:cNvCxnSpPr>
              <a:stCxn id="1404" idx="6"/>
              <a:endCxn id="1407" idx="2"/>
            </p:cNvCxnSpPr>
            <p:nvPr/>
          </p:nvCxnSpPr>
          <p:spPr>
            <a:xfrm flipV="1">
              <a:off x="689760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3" name=""/>
            <p:cNvCxnSpPr>
              <a:stCxn id="1407" idx="0"/>
              <a:endCxn id="1405" idx="5"/>
            </p:cNvCxnSpPr>
            <p:nvPr/>
          </p:nvCxnSpPr>
          <p:spPr>
            <a:xfrm flipH="1" flipV="1">
              <a:off x="723384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4" name=""/>
            <p:cNvCxnSpPr>
              <a:stCxn id="1404" idx="3"/>
              <a:endCxn id="1410" idx="7"/>
            </p:cNvCxnSpPr>
            <p:nvPr/>
          </p:nvCxnSpPr>
          <p:spPr>
            <a:xfrm flipH="1">
              <a:off x="616680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04" idx="5"/>
              <a:endCxn id="1406" idx="1"/>
            </p:cNvCxnSpPr>
            <p:nvPr/>
          </p:nvCxnSpPr>
          <p:spPr>
            <a:xfrm>
              <a:off x="685296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06" idx="0"/>
              <a:endCxn id="1407" idx="4"/>
            </p:cNvCxnSpPr>
            <p:nvPr/>
          </p:nvCxnSpPr>
          <p:spPr>
            <a:xfrm flipV="1">
              <a:off x="750708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7" name=""/>
            <p:cNvCxnSpPr>
              <a:stCxn id="1406" idx="3"/>
              <a:endCxn id="1408" idx="7"/>
            </p:cNvCxnSpPr>
            <p:nvPr/>
          </p:nvCxnSpPr>
          <p:spPr>
            <a:xfrm flipH="1">
              <a:off x="662436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8" name=""/>
            <p:cNvCxnSpPr>
              <a:stCxn id="1410" idx="0"/>
              <a:endCxn id="1409" idx="4"/>
            </p:cNvCxnSpPr>
            <p:nvPr/>
          </p:nvCxnSpPr>
          <p:spPr>
            <a:xfrm flipV="1">
              <a:off x="605916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9" name=""/>
            <p:cNvSpPr/>
            <p:nvPr/>
          </p:nvSpPr>
          <p:spPr>
            <a:xfrm>
              <a:off x="590724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4040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1672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05024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97392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5004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4056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7392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85800" y="1600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914400" y="3016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node awakes from the st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finds a minimum edge 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sp>
          <p:nvSpPr>
            <p:cNvPr id="1431" name=""/>
            <p:cNvSpPr/>
            <p:nvPr/>
          </p:nvSpPr>
          <p:spPr>
            <a:xfrm>
              <a:off x="593892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440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1976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42456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3924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14852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13404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se of zero-level frag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sp>
          <p:nvSpPr>
            <p:cNvPr id="1440" name=""/>
            <p:cNvSpPr/>
            <p:nvPr/>
          </p:nvSpPr>
          <p:spPr>
            <a:xfrm>
              <a:off x="593892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6440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1976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2456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3924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4852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3404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14400" y="435780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s it 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ST and send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over this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5907240" y="3581280"/>
            <a:ext cx="1861920" cy="2667240"/>
            <a:chOff x="5907240" y="3581280"/>
            <a:chExt cx="1861920" cy="2667240"/>
          </a:xfrm>
        </p:grpSpPr>
        <p:sp>
          <p:nvSpPr>
            <p:cNvPr id="1451" name=""/>
            <p:cNvSpPr/>
            <p:nvPr/>
          </p:nvSpPr>
          <p:spPr>
            <a:xfrm>
              <a:off x="6593040" y="4800600"/>
              <a:ext cx="304560" cy="304920"/>
            </a:xfrm>
            <a:prstGeom prst="ellipse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7392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5480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3112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6444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5952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0724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8" name=""/>
            <p:cNvCxnSpPr>
              <a:stCxn id="1456" idx="7"/>
              <a:endCxn id="1452" idx="3"/>
            </p:cNvCxnSpPr>
            <p:nvPr/>
          </p:nvCxnSpPr>
          <p:spPr>
            <a:xfrm flipV="1">
              <a:off x="631944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9" name=""/>
            <p:cNvCxnSpPr>
              <a:stCxn id="1451" idx="6"/>
              <a:endCxn id="1454" idx="2"/>
            </p:cNvCxnSpPr>
            <p:nvPr/>
          </p:nvCxnSpPr>
          <p:spPr>
            <a:xfrm flipV="1">
              <a:off x="6897600" y="4799880"/>
              <a:ext cx="534240" cy="1530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</p:cxnSp>
        <p:cxnSp>
          <p:nvCxnSpPr>
            <p:cNvPr id="1460" name=""/>
            <p:cNvCxnSpPr>
              <a:stCxn id="1454" idx="0"/>
              <a:endCxn id="1452" idx="5"/>
            </p:cNvCxnSpPr>
            <p:nvPr/>
          </p:nvCxnSpPr>
          <p:spPr>
            <a:xfrm flipH="1" flipV="1">
              <a:off x="723384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1" name=""/>
            <p:cNvCxnSpPr>
              <a:stCxn id="1451" idx="3"/>
              <a:endCxn id="1457" idx="7"/>
            </p:cNvCxnSpPr>
            <p:nvPr/>
          </p:nvCxnSpPr>
          <p:spPr>
            <a:xfrm flipH="1">
              <a:off x="616680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1" idx="5"/>
              <a:endCxn id="1453" idx="1"/>
            </p:cNvCxnSpPr>
            <p:nvPr/>
          </p:nvCxnSpPr>
          <p:spPr>
            <a:xfrm>
              <a:off x="685296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3" idx="0"/>
              <a:endCxn id="1454" idx="4"/>
            </p:cNvCxnSpPr>
            <p:nvPr/>
          </p:nvCxnSpPr>
          <p:spPr>
            <a:xfrm flipV="1">
              <a:off x="750708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53" idx="3"/>
              <a:endCxn id="1455" idx="7"/>
            </p:cNvCxnSpPr>
            <p:nvPr/>
          </p:nvCxnSpPr>
          <p:spPr>
            <a:xfrm flipH="1">
              <a:off x="662436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5" name=""/>
            <p:cNvCxnSpPr>
              <a:stCxn id="1457" idx="0"/>
              <a:endCxn id="1456" idx="4"/>
            </p:cNvCxnSpPr>
            <p:nvPr/>
          </p:nvCxnSpPr>
          <p:spPr>
            <a:xfrm flipV="1">
              <a:off x="605916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6" name=""/>
            <p:cNvSpPr/>
            <p:nvPr/>
          </p:nvSpPr>
          <p:spPr>
            <a:xfrm>
              <a:off x="590724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4040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41672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5024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97392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5004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4056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7392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sp>
          <p:nvSpPr>
            <p:cNvPr id="1475" name=""/>
            <p:cNvSpPr/>
            <p:nvPr/>
          </p:nvSpPr>
          <p:spPr>
            <a:xfrm>
              <a:off x="5938920" y="4191120"/>
              <a:ext cx="685800" cy="647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64400" y="3390840"/>
              <a:ext cx="71136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19760" y="5105520"/>
              <a:ext cx="533520" cy="76176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4695840"/>
              <a:ext cx="609840" cy="5205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239240" y="4405320"/>
              <a:ext cx="609480" cy="7621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48520" y="5243400"/>
              <a:ext cx="652680" cy="67320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34040" y="5715000"/>
              <a:ext cx="711360" cy="74916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914400" y="3016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node awakes from the st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finds a minimum edge 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se of zero-level frag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914400" y="435780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s it 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ST and send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over this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914400" y="5700600"/>
            <a:ext cx="42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in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5819760" y="3390840"/>
            <a:ext cx="2028960" cy="3073320"/>
            <a:chOff x="5819760" y="3390840"/>
            <a:chExt cx="2028960" cy="3073320"/>
          </a:xfrm>
        </p:grpSpPr>
        <p:grpSp>
          <p:nvGrpSpPr>
            <p:cNvPr id="1489" name=""/>
            <p:cNvGrpSpPr/>
            <p:nvPr/>
          </p:nvGrpSpPr>
          <p:grpSpPr>
            <a:xfrm>
              <a:off x="5819760" y="3390840"/>
              <a:ext cx="2028960" cy="3073320"/>
              <a:chOff x="5819760" y="3390840"/>
              <a:chExt cx="2028960" cy="3073320"/>
            </a:xfrm>
          </p:grpSpPr>
          <p:sp>
            <p:nvSpPr>
              <p:cNvPr id="1490" name=""/>
              <p:cNvSpPr/>
              <p:nvPr/>
            </p:nvSpPr>
            <p:spPr>
              <a:xfrm>
                <a:off x="5938920" y="4191120"/>
                <a:ext cx="685800" cy="647640"/>
              </a:xfrm>
              <a:custGeom>
                <a:avLst/>
                <a:gdLst/>
                <a:ahLst/>
                <a:rect l="l" t="t" r="r" b="b"/>
                <a:pathLst>
                  <a:path w="952" h="1128">
                    <a:moveTo>
                      <a:pt x="200" y="72"/>
                    </a:moveTo>
                    <a:cubicBezTo>
                      <a:pt x="320" y="0"/>
                      <a:pt x="616" y="120"/>
                      <a:pt x="728" y="216"/>
                    </a:cubicBezTo>
                    <a:cubicBezTo>
                      <a:pt x="840" y="312"/>
                      <a:pt x="952" y="496"/>
                      <a:pt x="872" y="648"/>
                    </a:cubicBezTo>
                    <a:cubicBezTo>
                      <a:pt x="792" y="800"/>
                      <a:pt x="392" y="1128"/>
                      <a:pt x="248" y="1128"/>
                    </a:cubicBezTo>
                    <a:cubicBezTo>
                      <a:pt x="104" y="1128"/>
                      <a:pt x="16" y="824"/>
                      <a:pt x="8" y="648"/>
                    </a:cubicBezTo>
                    <a:cubicBezTo>
                      <a:pt x="0" y="472"/>
                      <a:pt x="80" y="144"/>
                      <a:pt x="200" y="72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764400" y="3390840"/>
                <a:ext cx="711360" cy="74952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19760" y="5105520"/>
                <a:ext cx="533520" cy="761760"/>
              </a:xfrm>
              <a:custGeom>
                <a:avLst/>
                <a:gdLst/>
                <a:ahLst/>
                <a:rect l="l" t="t" r="r" b="b"/>
                <a:pathLst>
                  <a:path w="952" h="1128">
                    <a:moveTo>
                      <a:pt x="200" y="72"/>
                    </a:moveTo>
                    <a:cubicBezTo>
                      <a:pt x="320" y="0"/>
                      <a:pt x="616" y="120"/>
                      <a:pt x="728" y="216"/>
                    </a:cubicBezTo>
                    <a:cubicBezTo>
                      <a:pt x="840" y="312"/>
                      <a:pt x="952" y="496"/>
                      <a:pt x="872" y="648"/>
                    </a:cubicBezTo>
                    <a:cubicBezTo>
                      <a:pt x="792" y="800"/>
                      <a:pt x="392" y="1128"/>
                      <a:pt x="248" y="1128"/>
                    </a:cubicBezTo>
                    <a:cubicBezTo>
                      <a:pt x="104" y="1128"/>
                      <a:pt x="16" y="824"/>
                      <a:pt x="8" y="648"/>
                    </a:cubicBezTo>
                    <a:cubicBezTo>
                      <a:pt x="0" y="472"/>
                      <a:pt x="80" y="144"/>
                      <a:pt x="200" y="72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424560" y="4695840"/>
                <a:ext cx="609840" cy="52056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239240" y="4405320"/>
                <a:ext cx="609480" cy="76212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148520" y="5243400"/>
                <a:ext cx="652680" cy="67320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134040" y="5715000"/>
                <a:ext cx="711360" cy="74916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5907240" y="3581280"/>
              <a:ext cx="1861920" cy="2667240"/>
              <a:chOff x="5907240" y="3581280"/>
              <a:chExt cx="1861920" cy="2667240"/>
            </a:xfrm>
          </p:grpSpPr>
          <p:sp>
            <p:nvSpPr>
              <p:cNvPr id="1498" name=""/>
              <p:cNvSpPr/>
              <p:nvPr/>
            </p:nvSpPr>
            <p:spPr>
              <a:xfrm>
                <a:off x="6593040" y="4800600"/>
                <a:ext cx="304560" cy="304920"/>
              </a:xfrm>
              <a:prstGeom prst="ellipse">
                <a:avLst/>
              </a:prstGeom>
              <a:solidFill>
                <a:srgbClr val="008000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73920" y="35812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354800" y="54100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431120" y="4648320"/>
                <a:ext cx="30492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364440" y="5943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059520" y="434340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907240" y="5334120"/>
                <a:ext cx="30456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5" name=""/>
              <p:cNvCxnSpPr>
                <a:stCxn id="1503" idx="7"/>
                <a:endCxn id="1499" idx="3"/>
              </p:cNvCxnSpPr>
              <p:nvPr/>
            </p:nvCxnSpPr>
            <p:spPr>
              <a:xfrm flipV="1">
                <a:off x="6319440" y="3841560"/>
                <a:ext cx="699480" cy="54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6" name=""/>
              <p:cNvCxnSpPr>
                <a:stCxn id="1498" idx="6"/>
                <a:endCxn id="1501" idx="2"/>
              </p:cNvCxnSpPr>
              <p:nvPr/>
            </p:nvCxnSpPr>
            <p:spPr>
              <a:xfrm flipV="1">
                <a:off x="6897600" y="4799880"/>
                <a:ext cx="534240" cy="153000"/>
              </a:xfrm>
              <a:prstGeom prst="straightConnector1">
                <a:avLst/>
              </a:prstGeom>
              <a:ln w="38160">
                <a:solidFill>
                  <a:srgbClr val="ff6600"/>
                </a:solidFill>
                <a:miter/>
                <a:tailEnd len="med" type="arrow" w="med"/>
              </a:ln>
            </p:spPr>
          </p:cxnSp>
          <p:cxnSp>
            <p:nvCxnSpPr>
              <p:cNvPr id="1507" name=""/>
              <p:cNvCxnSpPr>
                <a:stCxn id="1501" idx="0"/>
                <a:endCxn id="1499" idx="5"/>
              </p:cNvCxnSpPr>
              <p:nvPr/>
            </p:nvCxnSpPr>
            <p:spPr>
              <a:xfrm flipH="1" flipV="1">
                <a:off x="7233840" y="3841560"/>
                <a:ext cx="349920" cy="80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8" name=""/>
              <p:cNvCxnSpPr>
                <a:stCxn id="1498" idx="3"/>
                <a:endCxn id="1504" idx="7"/>
              </p:cNvCxnSpPr>
              <p:nvPr/>
            </p:nvCxnSpPr>
            <p:spPr>
              <a:xfrm flipH="1">
                <a:off x="6166800" y="5060880"/>
                <a:ext cx="470520" cy="31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9" name=""/>
              <p:cNvCxnSpPr>
                <a:stCxn id="1498" idx="5"/>
                <a:endCxn id="1500" idx="1"/>
              </p:cNvCxnSpPr>
              <p:nvPr/>
            </p:nvCxnSpPr>
            <p:spPr>
              <a:xfrm>
                <a:off x="6852960" y="5060880"/>
                <a:ext cx="546480" cy="39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0" name=""/>
              <p:cNvCxnSpPr>
                <a:stCxn id="1500" idx="0"/>
                <a:endCxn id="1501" idx="4"/>
              </p:cNvCxnSpPr>
              <p:nvPr/>
            </p:nvCxnSpPr>
            <p:spPr>
              <a:xfrm flipV="1">
                <a:off x="7507080" y="4952520"/>
                <a:ext cx="7668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1" name=""/>
              <p:cNvCxnSpPr>
                <a:stCxn id="1500" idx="3"/>
                <a:endCxn id="1502" idx="7"/>
              </p:cNvCxnSpPr>
              <p:nvPr/>
            </p:nvCxnSpPr>
            <p:spPr>
              <a:xfrm flipH="1">
                <a:off x="6624360" y="5670360"/>
                <a:ext cx="775440" cy="31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2" name=""/>
              <p:cNvCxnSpPr>
                <a:stCxn id="1504" idx="0"/>
                <a:endCxn id="1503" idx="4"/>
              </p:cNvCxnSpPr>
              <p:nvPr/>
            </p:nvCxnSpPr>
            <p:spPr>
              <a:xfrm flipV="1">
                <a:off x="6059160" y="4647600"/>
                <a:ext cx="15300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13" name=""/>
              <p:cNvSpPr/>
              <p:nvPr/>
            </p:nvSpPr>
            <p:spPr>
              <a:xfrm>
                <a:off x="5907240" y="48006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440400" y="3871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416720" y="397656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050240" y="45720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973920" y="57769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350040" y="513396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540560" y="5014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73920" y="518148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819760" y="3390840"/>
              <a:ext cx="2028960" cy="3073320"/>
              <a:chOff x="5819760" y="3390840"/>
              <a:chExt cx="2028960" cy="3073320"/>
            </a:xfrm>
          </p:grpSpPr>
          <p:sp>
            <p:nvSpPr>
              <p:cNvPr id="1522" name=""/>
              <p:cNvSpPr/>
              <p:nvPr/>
            </p:nvSpPr>
            <p:spPr>
              <a:xfrm>
                <a:off x="5938920" y="4191120"/>
                <a:ext cx="685800" cy="647640"/>
              </a:xfrm>
              <a:custGeom>
                <a:avLst/>
                <a:gdLst/>
                <a:ahLst/>
                <a:rect l="l" t="t" r="r" b="b"/>
                <a:pathLst>
                  <a:path w="952" h="1128">
                    <a:moveTo>
                      <a:pt x="200" y="72"/>
                    </a:moveTo>
                    <a:cubicBezTo>
                      <a:pt x="320" y="0"/>
                      <a:pt x="616" y="120"/>
                      <a:pt x="728" y="216"/>
                    </a:cubicBezTo>
                    <a:cubicBezTo>
                      <a:pt x="840" y="312"/>
                      <a:pt x="952" y="496"/>
                      <a:pt x="872" y="648"/>
                    </a:cubicBezTo>
                    <a:cubicBezTo>
                      <a:pt x="792" y="800"/>
                      <a:pt x="392" y="1128"/>
                      <a:pt x="248" y="1128"/>
                    </a:cubicBezTo>
                    <a:cubicBezTo>
                      <a:pt x="104" y="1128"/>
                      <a:pt x="16" y="824"/>
                      <a:pt x="8" y="648"/>
                    </a:cubicBezTo>
                    <a:cubicBezTo>
                      <a:pt x="0" y="472"/>
                      <a:pt x="80" y="144"/>
                      <a:pt x="200" y="72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64400" y="3390840"/>
                <a:ext cx="711360" cy="74952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819760" y="5105520"/>
                <a:ext cx="533520" cy="761760"/>
              </a:xfrm>
              <a:custGeom>
                <a:avLst/>
                <a:gdLst/>
                <a:ahLst/>
                <a:rect l="l" t="t" r="r" b="b"/>
                <a:pathLst>
                  <a:path w="952" h="1128">
                    <a:moveTo>
                      <a:pt x="200" y="72"/>
                    </a:moveTo>
                    <a:cubicBezTo>
                      <a:pt x="320" y="0"/>
                      <a:pt x="616" y="120"/>
                      <a:pt x="728" y="216"/>
                    </a:cubicBezTo>
                    <a:cubicBezTo>
                      <a:pt x="840" y="312"/>
                      <a:pt x="952" y="496"/>
                      <a:pt x="872" y="648"/>
                    </a:cubicBezTo>
                    <a:cubicBezTo>
                      <a:pt x="792" y="800"/>
                      <a:pt x="392" y="1128"/>
                      <a:pt x="248" y="1128"/>
                    </a:cubicBezTo>
                    <a:cubicBezTo>
                      <a:pt x="104" y="1128"/>
                      <a:pt x="16" y="824"/>
                      <a:pt x="8" y="648"/>
                    </a:cubicBezTo>
                    <a:cubicBezTo>
                      <a:pt x="0" y="472"/>
                      <a:pt x="80" y="144"/>
                      <a:pt x="200" y="72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424560" y="4695840"/>
                <a:ext cx="609840" cy="52056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239240" y="4405320"/>
                <a:ext cx="609480" cy="76212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148520" y="5243400"/>
                <a:ext cx="652680" cy="67320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134040" y="5715000"/>
                <a:ext cx="711360" cy="749160"/>
              </a:xfrm>
              <a:custGeom>
                <a:avLst/>
                <a:gdLst/>
                <a:ahLst/>
                <a:rect l="l" t="t" r="r" b="b"/>
                <a:pathLst>
                  <a:path w="448" h="472">
                    <a:moveTo>
                      <a:pt x="8" y="168"/>
                    </a:moveTo>
                    <a:cubicBezTo>
                      <a:pt x="16" y="96"/>
                      <a:pt x="224" y="0"/>
                      <a:pt x="296" y="24"/>
                    </a:cubicBezTo>
                    <a:cubicBezTo>
                      <a:pt x="368" y="48"/>
                      <a:pt x="448" y="240"/>
                      <a:pt x="440" y="312"/>
                    </a:cubicBezTo>
                    <a:cubicBezTo>
                      <a:pt x="432" y="384"/>
                      <a:pt x="320" y="472"/>
                      <a:pt x="248" y="456"/>
                    </a:cubicBezTo>
                    <a:cubicBezTo>
                      <a:pt x="176" y="440"/>
                      <a:pt x="0" y="240"/>
                      <a:pt x="8" y="168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"/>
          <p:cNvSpPr/>
          <p:nvPr/>
        </p:nvSpPr>
        <p:spPr>
          <a:xfrm>
            <a:off x="914400" y="3016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node awakes from a st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finds a minimum edge 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se of zero-level frag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fragment at level L that was just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wo level L-1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81480" y="48006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924680" y="53341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486400" y="45720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153280" y="5105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8109000" y="41148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’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33760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5753160" y="3390840"/>
            <a:ext cx="2311200" cy="3149640"/>
            <a:chOff x="5753160" y="3390840"/>
            <a:chExt cx="2311200" cy="3149640"/>
          </a:xfrm>
        </p:grpSpPr>
        <p:sp>
          <p:nvSpPr>
            <p:cNvPr id="1542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9" name=""/>
            <p:cNvCxnSpPr>
              <a:stCxn id="1547" idx="7"/>
              <a:endCxn id="1543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2" idx="6"/>
              <a:endCxn id="1545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51" name=""/>
            <p:cNvCxnSpPr>
              <a:stCxn id="1545" idx="0"/>
              <a:endCxn id="1543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2" name=""/>
            <p:cNvCxnSpPr>
              <a:stCxn id="1542" idx="3"/>
              <a:endCxn id="1548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53" name=""/>
            <p:cNvCxnSpPr>
              <a:stCxn id="1542" idx="5"/>
              <a:endCxn id="1544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4" name=""/>
            <p:cNvCxnSpPr>
              <a:stCxn id="1544" idx="0"/>
              <a:endCxn id="1545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55" name=""/>
            <p:cNvCxnSpPr>
              <a:stCxn id="1544" idx="3"/>
              <a:endCxn id="1546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56" name=""/>
            <p:cNvCxnSpPr>
              <a:stCxn id="1548" idx="0"/>
              <a:endCxn id="1547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557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64400" y="3390840"/>
              <a:ext cx="71100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21440" y="4267080"/>
              <a:ext cx="1942920" cy="2273400"/>
            </a:xfrm>
            <a:custGeom>
              <a:avLst/>
              <a:gdLst/>
              <a:ahLst/>
              <a:rect l="l" t="t" r="r" b="b"/>
              <a:pathLst>
                <a:path w="1224" h="1432">
                  <a:moveTo>
                    <a:pt x="992" y="96"/>
                  </a:moveTo>
                  <a:cubicBezTo>
                    <a:pt x="928" y="0"/>
                    <a:pt x="792" y="160"/>
                    <a:pt x="752" y="240"/>
                  </a:cubicBezTo>
                  <a:cubicBezTo>
                    <a:pt x="712" y="320"/>
                    <a:pt x="784" y="480"/>
                    <a:pt x="752" y="576"/>
                  </a:cubicBezTo>
                  <a:cubicBezTo>
                    <a:pt x="720" y="672"/>
                    <a:pt x="672" y="736"/>
                    <a:pt x="560" y="816"/>
                  </a:cubicBezTo>
                  <a:cubicBezTo>
                    <a:pt x="448" y="896"/>
                    <a:pt x="160" y="968"/>
                    <a:pt x="80" y="1056"/>
                  </a:cubicBezTo>
                  <a:cubicBezTo>
                    <a:pt x="0" y="1144"/>
                    <a:pt x="16" y="1296"/>
                    <a:pt x="80" y="1344"/>
                  </a:cubicBezTo>
                  <a:cubicBezTo>
                    <a:pt x="144" y="1392"/>
                    <a:pt x="288" y="1432"/>
                    <a:pt x="464" y="1344"/>
                  </a:cubicBezTo>
                  <a:cubicBezTo>
                    <a:pt x="640" y="1256"/>
                    <a:pt x="1048" y="1024"/>
                    <a:pt x="1136" y="816"/>
                  </a:cubicBezTo>
                  <a:cubicBezTo>
                    <a:pt x="1224" y="608"/>
                    <a:pt x="1056" y="192"/>
                    <a:pt x="992" y="9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753160" y="4127400"/>
              <a:ext cx="1384200" cy="1727280"/>
            </a:xfrm>
            <a:custGeom>
              <a:avLst/>
              <a:gdLst/>
              <a:ahLst/>
              <a:rect l="l" t="t" r="r" b="b"/>
              <a:pathLst>
                <a:path w="872" h="1088">
                  <a:moveTo>
                    <a:pt x="120" y="136"/>
                  </a:moveTo>
                  <a:cubicBezTo>
                    <a:pt x="72" y="224"/>
                    <a:pt x="88" y="440"/>
                    <a:pt x="72" y="568"/>
                  </a:cubicBezTo>
                  <a:cubicBezTo>
                    <a:pt x="56" y="696"/>
                    <a:pt x="0" y="824"/>
                    <a:pt x="24" y="904"/>
                  </a:cubicBezTo>
                  <a:cubicBezTo>
                    <a:pt x="48" y="984"/>
                    <a:pt x="96" y="1088"/>
                    <a:pt x="216" y="1048"/>
                  </a:cubicBezTo>
                  <a:cubicBezTo>
                    <a:pt x="336" y="1008"/>
                    <a:pt x="640" y="776"/>
                    <a:pt x="744" y="664"/>
                  </a:cubicBezTo>
                  <a:cubicBezTo>
                    <a:pt x="848" y="552"/>
                    <a:pt x="872" y="432"/>
                    <a:pt x="840" y="376"/>
                  </a:cubicBezTo>
                  <a:cubicBezTo>
                    <a:pt x="808" y="320"/>
                    <a:pt x="632" y="384"/>
                    <a:pt x="552" y="328"/>
                  </a:cubicBezTo>
                  <a:cubicBezTo>
                    <a:pt x="472" y="272"/>
                    <a:pt x="432" y="80"/>
                    <a:pt x="360" y="40"/>
                  </a:cubicBezTo>
                  <a:cubicBezTo>
                    <a:pt x="288" y="0"/>
                    <a:pt x="168" y="48"/>
                    <a:pt x="120" y="13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ff9900">
              <a:alpha val="25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914400" y="320508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ight of the core is the identity of the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fragment at level L that was just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wo level L-1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343400" y="62485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181480" y="48006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924680" y="53341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486400" y="45720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8153280" y="5105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8109000" y="41148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’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33760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5753160" y="3390840"/>
            <a:ext cx="2311200" cy="3149640"/>
            <a:chOff x="5753160" y="3390840"/>
            <a:chExt cx="2311200" cy="3149640"/>
          </a:xfrm>
        </p:grpSpPr>
        <p:sp>
          <p:nvSpPr>
            <p:cNvPr id="1582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9" name=""/>
            <p:cNvCxnSpPr>
              <a:stCxn id="1587" idx="7"/>
              <a:endCxn id="1583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82" idx="6"/>
              <a:endCxn id="1585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91" name=""/>
            <p:cNvCxnSpPr>
              <a:stCxn id="1585" idx="0"/>
              <a:endCxn id="1583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82" idx="3"/>
              <a:endCxn id="1588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93" name=""/>
            <p:cNvCxnSpPr>
              <a:stCxn id="1582" idx="5"/>
              <a:endCxn id="1584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84" idx="0"/>
              <a:endCxn id="1585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95" name=""/>
            <p:cNvCxnSpPr>
              <a:stCxn id="1584" idx="3"/>
              <a:endCxn id="1586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596" name=""/>
            <p:cNvCxnSpPr>
              <a:stCxn id="1588" idx="0"/>
              <a:endCxn id="1587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597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764400" y="3390840"/>
              <a:ext cx="71100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121440" y="4267080"/>
              <a:ext cx="1942920" cy="2273400"/>
            </a:xfrm>
            <a:custGeom>
              <a:avLst/>
              <a:gdLst/>
              <a:ahLst/>
              <a:rect l="l" t="t" r="r" b="b"/>
              <a:pathLst>
                <a:path w="1224" h="1432">
                  <a:moveTo>
                    <a:pt x="992" y="96"/>
                  </a:moveTo>
                  <a:cubicBezTo>
                    <a:pt x="928" y="0"/>
                    <a:pt x="792" y="160"/>
                    <a:pt x="752" y="240"/>
                  </a:cubicBezTo>
                  <a:cubicBezTo>
                    <a:pt x="712" y="320"/>
                    <a:pt x="784" y="480"/>
                    <a:pt x="752" y="576"/>
                  </a:cubicBezTo>
                  <a:cubicBezTo>
                    <a:pt x="720" y="672"/>
                    <a:pt x="672" y="736"/>
                    <a:pt x="560" y="816"/>
                  </a:cubicBezTo>
                  <a:cubicBezTo>
                    <a:pt x="448" y="896"/>
                    <a:pt x="160" y="968"/>
                    <a:pt x="80" y="1056"/>
                  </a:cubicBezTo>
                  <a:cubicBezTo>
                    <a:pt x="0" y="1144"/>
                    <a:pt x="16" y="1296"/>
                    <a:pt x="80" y="1344"/>
                  </a:cubicBezTo>
                  <a:cubicBezTo>
                    <a:pt x="144" y="1392"/>
                    <a:pt x="288" y="1432"/>
                    <a:pt x="464" y="1344"/>
                  </a:cubicBezTo>
                  <a:cubicBezTo>
                    <a:pt x="640" y="1256"/>
                    <a:pt x="1048" y="1024"/>
                    <a:pt x="1136" y="816"/>
                  </a:cubicBezTo>
                  <a:cubicBezTo>
                    <a:pt x="1224" y="608"/>
                    <a:pt x="1056" y="192"/>
                    <a:pt x="992" y="9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53160" y="4127400"/>
              <a:ext cx="1384200" cy="1727280"/>
            </a:xfrm>
            <a:custGeom>
              <a:avLst/>
              <a:gdLst/>
              <a:ahLst/>
              <a:rect l="l" t="t" r="r" b="b"/>
              <a:pathLst>
                <a:path w="872" h="1088">
                  <a:moveTo>
                    <a:pt x="120" y="136"/>
                  </a:moveTo>
                  <a:cubicBezTo>
                    <a:pt x="72" y="224"/>
                    <a:pt x="88" y="440"/>
                    <a:pt x="72" y="568"/>
                  </a:cubicBezTo>
                  <a:cubicBezTo>
                    <a:pt x="56" y="696"/>
                    <a:pt x="0" y="824"/>
                    <a:pt x="24" y="904"/>
                  </a:cubicBezTo>
                  <a:cubicBezTo>
                    <a:pt x="48" y="984"/>
                    <a:pt x="96" y="1088"/>
                    <a:pt x="216" y="1048"/>
                  </a:cubicBezTo>
                  <a:cubicBezTo>
                    <a:pt x="336" y="1008"/>
                    <a:pt x="640" y="776"/>
                    <a:pt x="744" y="664"/>
                  </a:cubicBezTo>
                  <a:cubicBezTo>
                    <a:pt x="848" y="552"/>
                    <a:pt x="872" y="432"/>
                    <a:pt x="840" y="376"/>
                  </a:cubicBezTo>
                  <a:cubicBezTo>
                    <a:pt x="808" y="320"/>
                    <a:pt x="632" y="384"/>
                    <a:pt x="552" y="328"/>
                  </a:cubicBezTo>
                  <a:cubicBezTo>
                    <a:pt x="472" y="272"/>
                    <a:pt x="432" y="80"/>
                    <a:pt x="360" y="40"/>
                  </a:cubicBezTo>
                  <a:cubicBezTo>
                    <a:pt x="288" y="0"/>
                    <a:pt x="168" y="48"/>
                    <a:pt x="120" y="13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8001000" y="35812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’’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ff9900">
              <a:alpha val="25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334120" y="4952880"/>
            <a:ext cx="2019240" cy="1791000"/>
          </a:xfrm>
          <a:custGeom>
            <a:avLst/>
            <a:gdLst/>
            <a:ahLst/>
            <a:rect l="l" t="t" r="r" b="b"/>
            <a:pathLst>
              <a:path w="1272" h="1128">
                <a:moveTo>
                  <a:pt x="0" y="960"/>
                </a:moveTo>
                <a:cubicBezTo>
                  <a:pt x="260" y="1044"/>
                  <a:pt x="520" y="1128"/>
                  <a:pt x="720" y="1104"/>
                </a:cubicBezTo>
                <a:cubicBezTo>
                  <a:pt x="920" y="1080"/>
                  <a:pt x="1128" y="1000"/>
                  <a:pt x="1200" y="816"/>
                </a:cubicBezTo>
                <a:cubicBezTo>
                  <a:pt x="1272" y="632"/>
                  <a:pt x="1212" y="316"/>
                  <a:pt x="115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914400" y="411480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as a root of a fragment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914400" y="3205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djacent to core se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to the b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fragment at level L that was just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wo level L-1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5460840" y="3390840"/>
            <a:ext cx="3200400" cy="3353040"/>
            <a:chOff x="5460840" y="3390840"/>
            <a:chExt cx="3200400" cy="3353040"/>
          </a:xfrm>
        </p:grpSpPr>
        <p:sp>
          <p:nvSpPr>
            <p:cNvPr id="1618" name=""/>
            <p:cNvSpPr/>
            <p:nvPr/>
          </p:nvSpPr>
          <p:spPr>
            <a:xfrm>
              <a:off x="6597720" y="4800600"/>
              <a:ext cx="304560" cy="304920"/>
            </a:xfrm>
            <a:prstGeom prst="ellipse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78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359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35800" y="4648320"/>
              <a:ext cx="304920" cy="304560"/>
            </a:xfrm>
            <a:prstGeom prst="ellipse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69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64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11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7"/>
              <a:endCxn id="1619" idx="3"/>
            </p:cNvCxnSpPr>
            <p:nvPr/>
          </p:nvCxnSpPr>
          <p:spPr>
            <a:xfrm flipV="1">
              <a:off x="6324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8" idx="6"/>
              <a:endCxn id="1621" idx="2"/>
            </p:cNvCxnSpPr>
            <p:nvPr/>
          </p:nvCxnSpPr>
          <p:spPr>
            <a:xfrm flipV="1">
              <a:off x="6902280" y="4799880"/>
              <a:ext cx="534240" cy="1530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27" name=""/>
            <p:cNvCxnSpPr>
              <a:stCxn id="1621" idx="0"/>
              <a:endCxn id="1619" idx="5"/>
            </p:cNvCxnSpPr>
            <p:nvPr/>
          </p:nvCxnSpPr>
          <p:spPr>
            <a:xfrm flipH="1" flipV="1">
              <a:off x="7238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8" name=""/>
            <p:cNvCxnSpPr>
              <a:stCxn id="1618" idx="3"/>
              <a:endCxn id="1624" idx="7"/>
            </p:cNvCxnSpPr>
            <p:nvPr/>
          </p:nvCxnSpPr>
          <p:spPr>
            <a:xfrm flipH="1">
              <a:off x="6171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8000"/>
              </a:solidFill>
              <a:miter/>
              <a:tailEnd len="lg" type="stealth" w="lg"/>
            </a:ln>
          </p:spPr>
        </p:cxnSp>
        <p:cxnSp>
          <p:nvCxnSpPr>
            <p:cNvPr id="1629" name=""/>
            <p:cNvCxnSpPr>
              <a:stCxn id="1618" idx="5"/>
              <a:endCxn id="1620" idx="1"/>
            </p:cNvCxnSpPr>
            <p:nvPr/>
          </p:nvCxnSpPr>
          <p:spPr>
            <a:xfrm>
              <a:off x="6857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0" name=""/>
            <p:cNvCxnSpPr>
              <a:stCxn id="1620" idx="0"/>
              <a:endCxn id="1621" idx="4"/>
            </p:cNvCxnSpPr>
            <p:nvPr/>
          </p:nvCxnSpPr>
          <p:spPr>
            <a:xfrm flipV="1">
              <a:off x="7511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8000"/>
              </a:solidFill>
              <a:miter/>
              <a:headEnd len="lg" type="stealth" w="lg"/>
            </a:ln>
          </p:spPr>
        </p:cxnSp>
        <p:cxnSp>
          <p:nvCxnSpPr>
            <p:cNvPr id="1631" name=""/>
            <p:cNvCxnSpPr>
              <a:stCxn id="1620" idx="3"/>
              <a:endCxn id="1622" idx="7"/>
            </p:cNvCxnSpPr>
            <p:nvPr/>
          </p:nvCxnSpPr>
          <p:spPr>
            <a:xfrm flipH="1">
              <a:off x="6629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632" name=""/>
            <p:cNvCxnSpPr>
              <a:stCxn id="1624" idx="0"/>
              <a:endCxn id="1623" idx="4"/>
            </p:cNvCxnSpPr>
            <p:nvPr/>
          </p:nvCxnSpPr>
          <p:spPr>
            <a:xfrm flipV="1">
              <a:off x="6063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1633" name=""/>
            <p:cNvSpPr/>
            <p:nvPr/>
          </p:nvSpPr>
          <p:spPr>
            <a:xfrm>
              <a:off x="5911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21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54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78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54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45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78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764400" y="3390840"/>
              <a:ext cx="711000" cy="749520"/>
            </a:xfrm>
            <a:custGeom>
              <a:avLst/>
              <a:gdLst/>
              <a:ahLst/>
              <a:rect l="l" t="t" r="r" b="b"/>
              <a:pathLst>
                <a:path w="448" h="472">
                  <a:moveTo>
                    <a:pt x="8" y="168"/>
                  </a:moveTo>
                  <a:cubicBezTo>
                    <a:pt x="16" y="96"/>
                    <a:pt x="224" y="0"/>
                    <a:pt x="296" y="24"/>
                  </a:cubicBezTo>
                  <a:cubicBezTo>
                    <a:pt x="368" y="48"/>
                    <a:pt x="448" y="240"/>
                    <a:pt x="440" y="312"/>
                  </a:cubicBezTo>
                  <a:cubicBezTo>
                    <a:pt x="432" y="384"/>
                    <a:pt x="320" y="472"/>
                    <a:pt x="248" y="456"/>
                  </a:cubicBezTo>
                  <a:cubicBezTo>
                    <a:pt x="176" y="440"/>
                    <a:pt x="0" y="240"/>
                    <a:pt x="8" y="16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445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21440" y="4267080"/>
              <a:ext cx="1942920" cy="2273400"/>
            </a:xfrm>
            <a:custGeom>
              <a:avLst/>
              <a:gdLst/>
              <a:ahLst/>
              <a:rect l="l" t="t" r="r" b="b"/>
              <a:pathLst>
                <a:path w="1224" h="1432">
                  <a:moveTo>
                    <a:pt x="992" y="96"/>
                  </a:moveTo>
                  <a:cubicBezTo>
                    <a:pt x="928" y="0"/>
                    <a:pt x="792" y="160"/>
                    <a:pt x="752" y="240"/>
                  </a:cubicBezTo>
                  <a:cubicBezTo>
                    <a:pt x="712" y="320"/>
                    <a:pt x="784" y="480"/>
                    <a:pt x="752" y="576"/>
                  </a:cubicBezTo>
                  <a:cubicBezTo>
                    <a:pt x="720" y="672"/>
                    <a:pt x="672" y="736"/>
                    <a:pt x="560" y="816"/>
                  </a:cubicBezTo>
                  <a:cubicBezTo>
                    <a:pt x="448" y="896"/>
                    <a:pt x="160" y="968"/>
                    <a:pt x="80" y="1056"/>
                  </a:cubicBezTo>
                  <a:cubicBezTo>
                    <a:pt x="0" y="1144"/>
                    <a:pt x="16" y="1296"/>
                    <a:pt x="80" y="1344"/>
                  </a:cubicBezTo>
                  <a:cubicBezTo>
                    <a:pt x="144" y="1392"/>
                    <a:pt x="288" y="1432"/>
                    <a:pt x="464" y="1344"/>
                  </a:cubicBezTo>
                  <a:cubicBezTo>
                    <a:pt x="640" y="1256"/>
                    <a:pt x="1048" y="1024"/>
                    <a:pt x="1136" y="816"/>
                  </a:cubicBezTo>
                  <a:cubicBezTo>
                    <a:pt x="1224" y="608"/>
                    <a:pt x="1056" y="192"/>
                    <a:pt x="992" y="9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53160" y="4127400"/>
              <a:ext cx="1384200" cy="1727280"/>
            </a:xfrm>
            <a:custGeom>
              <a:avLst/>
              <a:gdLst/>
              <a:ahLst/>
              <a:rect l="l" t="t" r="r" b="b"/>
              <a:pathLst>
                <a:path w="872" h="1088">
                  <a:moveTo>
                    <a:pt x="120" y="136"/>
                  </a:moveTo>
                  <a:cubicBezTo>
                    <a:pt x="72" y="224"/>
                    <a:pt x="88" y="440"/>
                    <a:pt x="72" y="568"/>
                  </a:cubicBezTo>
                  <a:cubicBezTo>
                    <a:pt x="56" y="696"/>
                    <a:pt x="0" y="824"/>
                    <a:pt x="24" y="904"/>
                  </a:cubicBezTo>
                  <a:cubicBezTo>
                    <a:pt x="48" y="984"/>
                    <a:pt x="96" y="1088"/>
                    <a:pt x="216" y="1048"/>
                  </a:cubicBezTo>
                  <a:cubicBezTo>
                    <a:pt x="336" y="1008"/>
                    <a:pt x="640" y="776"/>
                    <a:pt x="744" y="664"/>
                  </a:cubicBezTo>
                  <a:cubicBezTo>
                    <a:pt x="848" y="552"/>
                    <a:pt x="872" y="432"/>
                    <a:pt x="840" y="376"/>
                  </a:cubicBezTo>
                  <a:cubicBezTo>
                    <a:pt x="808" y="320"/>
                    <a:pt x="632" y="384"/>
                    <a:pt x="552" y="328"/>
                  </a:cubicBezTo>
                  <a:cubicBezTo>
                    <a:pt x="472" y="272"/>
                    <a:pt x="432" y="80"/>
                    <a:pt x="360" y="40"/>
                  </a:cubicBezTo>
                  <a:cubicBezTo>
                    <a:pt x="288" y="0"/>
                    <a:pt x="168" y="48"/>
                    <a:pt x="120" y="136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60840" y="3860640"/>
              <a:ext cx="3200400" cy="2883240"/>
            </a:xfrm>
            <a:custGeom>
              <a:avLst/>
              <a:gdLst/>
              <a:ahLst/>
              <a:rect l="l" t="t" r="r" b="b"/>
              <a:pathLst>
                <a:path w="2016" h="1816">
                  <a:moveTo>
                    <a:pt x="304" y="208"/>
                  </a:moveTo>
                  <a:cubicBezTo>
                    <a:pt x="384" y="0"/>
                    <a:pt x="416" y="32"/>
                    <a:pt x="544" y="64"/>
                  </a:cubicBezTo>
                  <a:cubicBezTo>
                    <a:pt x="672" y="96"/>
                    <a:pt x="928" y="384"/>
                    <a:pt x="1072" y="400"/>
                  </a:cubicBezTo>
                  <a:cubicBezTo>
                    <a:pt x="1216" y="416"/>
                    <a:pt x="1272" y="32"/>
                    <a:pt x="1408" y="160"/>
                  </a:cubicBezTo>
                  <a:cubicBezTo>
                    <a:pt x="1544" y="288"/>
                    <a:pt x="2016" y="896"/>
                    <a:pt x="1888" y="1168"/>
                  </a:cubicBezTo>
                  <a:cubicBezTo>
                    <a:pt x="1760" y="1440"/>
                    <a:pt x="944" y="1768"/>
                    <a:pt x="640" y="1792"/>
                  </a:cubicBezTo>
                  <a:cubicBezTo>
                    <a:pt x="336" y="1816"/>
                    <a:pt x="128" y="1576"/>
                    <a:pt x="64" y="1312"/>
                  </a:cubicBezTo>
                  <a:cubicBezTo>
                    <a:pt x="0" y="1048"/>
                    <a:pt x="224" y="416"/>
                    <a:pt x="304" y="208"/>
                  </a:cubicBezTo>
                  <a:close/>
                </a:path>
              </a:pathLst>
            </a:custGeom>
            <a:solidFill>
              <a:srgbClr val="ff9900">
                <a:alpha val="25000"/>
              </a:srgbClr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914400" y="3205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djacent to core se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to the b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fragment at level L that was just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wo level L-1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914400" y="45385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yed by the intermediate nodes in the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"/>
          <p:cNvCxnSpPr>
            <a:stCxn id="1656" idx="7"/>
            <a:endCxn id="1652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9" name=""/>
          <p:cNvCxnSpPr>
            <a:stCxn id="1651" idx="6"/>
            <a:endCxn id="1654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60" name=""/>
          <p:cNvCxnSpPr>
            <a:stCxn id="1654" idx="0"/>
            <a:endCxn id="1652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1" name=""/>
          <p:cNvCxnSpPr>
            <a:stCxn id="1651" idx="3"/>
            <a:endCxn id="1657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lg" type="stealth" w="lg"/>
          </a:ln>
        </p:spPr>
      </p:cxnSp>
      <p:cxnSp>
        <p:nvCxnSpPr>
          <p:cNvPr id="1662" name=""/>
          <p:cNvCxnSpPr>
            <a:stCxn id="1651" idx="5"/>
            <a:endCxn id="1653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3" name=""/>
          <p:cNvCxnSpPr>
            <a:stCxn id="1653" idx="0"/>
            <a:endCxn id="1654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lg" type="stealth" w="lg"/>
          </a:ln>
        </p:spPr>
      </p:cxnSp>
      <p:cxnSp>
        <p:nvCxnSpPr>
          <p:cNvPr id="1664" name=""/>
          <p:cNvCxnSpPr>
            <a:stCxn id="1653" idx="3"/>
            <a:endCxn id="1655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665" name=""/>
          <p:cNvCxnSpPr>
            <a:stCxn id="1657" idx="0"/>
            <a:endCxn id="1656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666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121440" y="4267080"/>
            <a:ext cx="1942920" cy="2273400"/>
          </a:xfrm>
          <a:custGeom>
            <a:avLst/>
            <a:gdLst/>
            <a:ahLst/>
            <a:rect l="l" t="t" r="r" b="b"/>
            <a:pathLst>
              <a:path w="1224" h="1432">
                <a:moveTo>
                  <a:pt x="992" y="96"/>
                </a:moveTo>
                <a:cubicBezTo>
                  <a:pt x="928" y="0"/>
                  <a:pt x="792" y="160"/>
                  <a:pt x="752" y="240"/>
                </a:cubicBezTo>
                <a:cubicBezTo>
                  <a:pt x="712" y="320"/>
                  <a:pt x="784" y="480"/>
                  <a:pt x="752" y="576"/>
                </a:cubicBezTo>
                <a:cubicBezTo>
                  <a:pt x="720" y="672"/>
                  <a:pt x="672" y="736"/>
                  <a:pt x="560" y="816"/>
                </a:cubicBezTo>
                <a:cubicBezTo>
                  <a:pt x="448" y="896"/>
                  <a:pt x="160" y="968"/>
                  <a:pt x="80" y="1056"/>
                </a:cubicBezTo>
                <a:cubicBezTo>
                  <a:pt x="0" y="1144"/>
                  <a:pt x="16" y="1296"/>
                  <a:pt x="80" y="1344"/>
                </a:cubicBezTo>
                <a:cubicBezTo>
                  <a:pt x="144" y="1392"/>
                  <a:pt x="288" y="1432"/>
                  <a:pt x="464" y="1344"/>
                </a:cubicBezTo>
                <a:cubicBezTo>
                  <a:pt x="640" y="1256"/>
                  <a:pt x="1048" y="1024"/>
                  <a:pt x="1136" y="816"/>
                </a:cubicBezTo>
                <a:cubicBezTo>
                  <a:pt x="1224" y="608"/>
                  <a:pt x="1056" y="192"/>
                  <a:pt x="992" y="9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753160" y="4127400"/>
            <a:ext cx="1384200" cy="1727280"/>
          </a:xfrm>
          <a:custGeom>
            <a:avLst/>
            <a:gdLst/>
            <a:ahLst/>
            <a:rect l="l" t="t" r="r" b="b"/>
            <a:pathLst>
              <a:path w="872" h="1088">
                <a:moveTo>
                  <a:pt x="120" y="136"/>
                </a:moveTo>
                <a:cubicBezTo>
                  <a:pt x="72" y="224"/>
                  <a:pt x="88" y="440"/>
                  <a:pt x="72" y="568"/>
                </a:cubicBezTo>
                <a:cubicBezTo>
                  <a:pt x="56" y="696"/>
                  <a:pt x="0" y="824"/>
                  <a:pt x="24" y="904"/>
                </a:cubicBezTo>
                <a:cubicBezTo>
                  <a:pt x="48" y="984"/>
                  <a:pt x="96" y="1088"/>
                  <a:pt x="216" y="1048"/>
                </a:cubicBezTo>
                <a:cubicBezTo>
                  <a:pt x="336" y="1008"/>
                  <a:pt x="640" y="776"/>
                  <a:pt x="744" y="664"/>
                </a:cubicBezTo>
                <a:cubicBezTo>
                  <a:pt x="848" y="552"/>
                  <a:pt x="872" y="432"/>
                  <a:pt x="840" y="376"/>
                </a:cubicBezTo>
                <a:cubicBezTo>
                  <a:pt x="808" y="320"/>
                  <a:pt x="632" y="384"/>
                  <a:pt x="552" y="328"/>
                </a:cubicBezTo>
                <a:cubicBezTo>
                  <a:pt x="472" y="272"/>
                  <a:pt x="432" y="80"/>
                  <a:pt x="360" y="40"/>
                </a:cubicBezTo>
                <a:cubicBezTo>
                  <a:pt x="288" y="0"/>
                  <a:pt x="168" y="48"/>
                  <a:pt x="120" y="13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ff9900">
              <a:alpha val="25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500" autoRev="1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6" dur="1500" autoRev="1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1500" autoRev="1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500" autoRev="1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0" dur="1500" autoRev="1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1" dur="1500" autoRev="1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914400" y="32050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djacent to core se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to the b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fragment at level L that was just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wo level L-1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914400" y="45385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yed by the intermediate nodes in the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1" name=""/>
          <p:cNvCxnSpPr>
            <a:stCxn id="1689" idx="7"/>
            <a:endCxn id="1685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2" name=""/>
          <p:cNvCxnSpPr>
            <a:stCxn id="1684" idx="6"/>
            <a:endCxn id="1687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3" name=""/>
          <p:cNvCxnSpPr>
            <a:stCxn id="1687" idx="0"/>
            <a:endCxn id="1685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4" name=""/>
          <p:cNvCxnSpPr>
            <a:stCxn id="1684" idx="3"/>
            <a:endCxn id="1690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lg" type="stealth" w="lg"/>
          </a:ln>
        </p:spPr>
      </p:cxnSp>
      <p:cxnSp>
        <p:nvCxnSpPr>
          <p:cNvPr id="1695" name=""/>
          <p:cNvCxnSpPr>
            <a:stCxn id="1684" idx="5"/>
            <a:endCxn id="1686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86" idx="0"/>
            <a:endCxn id="1687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lg" type="stealth" w="lg"/>
          </a:ln>
        </p:spPr>
      </p:cxnSp>
      <p:cxnSp>
        <p:nvCxnSpPr>
          <p:cNvPr id="1697" name=""/>
          <p:cNvCxnSpPr>
            <a:stCxn id="1686" idx="3"/>
            <a:endCxn id="1688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lg" type="stealth" w="lg"/>
          </a:ln>
        </p:spPr>
      </p:cxnSp>
      <p:cxnSp>
        <p:nvCxnSpPr>
          <p:cNvPr id="1698" name=""/>
          <p:cNvCxnSpPr>
            <a:stCxn id="1690" idx="0"/>
            <a:endCxn id="1689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lg" type="stealth" w="lg"/>
          </a:ln>
        </p:spPr>
      </p:cxnSp>
      <p:sp>
        <p:nvSpPr>
          <p:cNvPr id="1699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914400" y="54547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s the nodes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121440" y="4267080"/>
            <a:ext cx="1942920" cy="2273400"/>
          </a:xfrm>
          <a:custGeom>
            <a:avLst/>
            <a:gdLst/>
            <a:ahLst/>
            <a:rect l="l" t="t" r="r" b="b"/>
            <a:pathLst>
              <a:path w="1224" h="1432">
                <a:moveTo>
                  <a:pt x="992" y="96"/>
                </a:moveTo>
                <a:cubicBezTo>
                  <a:pt x="928" y="0"/>
                  <a:pt x="792" y="160"/>
                  <a:pt x="752" y="240"/>
                </a:cubicBezTo>
                <a:cubicBezTo>
                  <a:pt x="712" y="320"/>
                  <a:pt x="784" y="480"/>
                  <a:pt x="752" y="576"/>
                </a:cubicBezTo>
                <a:cubicBezTo>
                  <a:pt x="720" y="672"/>
                  <a:pt x="672" y="736"/>
                  <a:pt x="560" y="816"/>
                </a:cubicBezTo>
                <a:cubicBezTo>
                  <a:pt x="448" y="896"/>
                  <a:pt x="160" y="968"/>
                  <a:pt x="80" y="1056"/>
                </a:cubicBezTo>
                <a:cubicBezTo>
                  <a:pt x="0" y="1144"/>
                  <a:pt x="16" y="1296"/>
                  <a:pt x="80" y="1344"/>
                </a:cubicBezTo>
                <a:cubicBezTo>
                  <a:pt x="144" y="1392"/>
                  <a:pt x="288" y="1432"/>
                  <a:pt x="464" y="1344"/>
                </a:cubicBezTo>
                <a:cubicBezTo>
                  <a:pt x="640" y="1256"/>
                  <a:pt x="1048" y="1024"/>
                  <a:pt x="1136" y="816"/>
                </a:cubicBezTo>
                <a:cubicBezTo>
                  <a:pt x="1224" y="608"/>
                  <a:pt x="1056" y="192"/>
                  <a:pt x="992" y="9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753160" y="4127400"/>
            <a:ext cx="1384200" cy="1727280"/>
          </a:xfrm>
          <a:custGeom>
            <a:avLst/>
            <a:gdLst/>
            <a:ahLst/>
            <a:rect l="l" t="t" r="r" b="b"/>
            <a:pathLst>
              <a:path w="872" h="1088">
                <a:moveTo>
                  <a:pt x="120" y="136"/>
                </a:moveTo>
                <a:cubicBezTo>
                  <a:pt x="72" y="224"/>
                  <a:pt x="88" y="440"/>
                  <a:pt x="72" y="568"/>
                </a:cubicBezTo>
                <a:cubicBezTo>
                  <a:pt x="56" y="696"/>
                  <a:pt x="0" y="824"/>
                  <a:pt x="24" y="904"/>
                </a:cubicBezTo>
                <a:cubicBezTo>
                  <a:pt x="48" y="984"/>
                  <a:pt x="96" y="1088"/>
                  <a:pt x="216" y="1048"/>
                </a:cubicBezTo>
                <a:cubicBezTo>
                  <a:pt x="336" y="1008"/>
                  <a:pt x="640" y="776"/>
                  <a:pt x="744" y="664"/>
                </a:cubicBezTo>
                <a:cubicBezTo>
                  <a:pt x="848" y="552"/>
                  <a:pt x="872" y="432"/>
                  <a:pt x="840" y="376"/>
                </a:cubicBezTo>
                <a:cubicBezTo>
                  <a:pt x="808" y="320"/>
                  <a:pt x="632" y="384"/>
                  <a:pt x="552" y="328"/>
                </a:cubicBezTo>
                <a:cubicBezTo>
                  <a:pt x="472" y="272"/>
                  <a:pt x="432" y="80"/>
                  <a:pt x="360" y="40"/>
                </a:cubicBezTo>
                <a:cubicBezTo>
                  <a:pt x="288" y="0"/>
                  <a:pt x="168" y="48"/>
                  <a:pt x="120" y="13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ff9900">
              <a:alpha val="25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85800" y="1600200"/>
            <a:ext cx="7772400" cy="2022480"/>
            <a:chOff x="685800" y="1600200"/>
            <a:chExt cx="7772400" cy="2022480"/>
          </a:xfrm>
        </p:grpSpPr>
        <p:sp>
          <p:nvSpPr>
            <p:cNvPr id="86" name=""/>
            <p:cNvSpPr/>
            <p:nvPr/>
          </p:nvSpPr>
          <p:spPr>
            <a:xfrm>
              <a:off x="685800" y="1600200"/>
              <a:ext cx="55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33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3602160" y="2209680"/>
            <a:ext cx="1979640" cy="57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02160" y="2209680"/>
                      <a:ext cx="19796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905040" y="222876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panning t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2728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 that the sum                  is minimiz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3505320" y="2652840"/>
            <a:ext cx="1476360" cy="96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2652840"/>
                      <a:ext cx="147636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95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0" idx="7"/>
              <a:endCxn id="96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5" idx="6"/>
              <a:endCxn id="98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98" idx="0"/>
              <a:endCxn id="96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"/>
            <p:cNvCxnSpPr>
              <a:stCxn id="95" idx="3"/>
              <a:endCxn id="101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stCxn id="95" idx="5"/>
              <a:endCxn id="97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97" idx="0"/>
              <a:endCxn id="98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97" idx="3"/>
              <a:endCxn id="99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101" idx="0"/>
              <a:endCxn id="100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914400" y="3205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yet to be classified, can be inside fragment or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lassific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3" name=""/>
          <p:cNvCxnSpPr>
            <a:stCxn id="1721" idx="7"/>
            <a:endCxn id="1717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38160">
            <a:solidFill>
              <a:srgbClr val="800080"/>
            </a:solidFill>
            <a:miter/>
          </a:ln>
        </p:spPr>
      </p:cxnSp>
      <p:cxnSp>
        <p:nvCxnSpPr>
          <p:cNvPr id="1724" name=""/>
          <p:cNvCxnSpPr>
            <a:stCxn id="1716" idx="6"/>
            <a:endCxn id="1719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25" name=""/>
          <p:cNvCxnSpPr>
            <a:stCxn id="1719" idx="0"/>
            <a:endCxn id="1717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38160">
            <a:solidFill>
              <a:srgbClr val="800080"/>
            </a:solidFill>
            <a:miter/>
          </a:ln>
        </p:spPr>
      </p:cxnSp>
      <p:cxnSp>
        <p:nvCxnSpPr>
          <p:cNvPr id="1726" name=""/>
          <p:cNvCxnSpPr>
            <a:stCxn id="1716" idx="3"/>
            <a:endCxn id="1722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27" name=""/>
          <p:cNvCxnSpPr>
            <a:stCxn id="1716" idx="5"/>
            <a:endCxn id="1718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8" name=""/>
          <p:cNvCxnSpPr>
            <a:stCxn id="1718" idx="0"/>
            <a:endCxn id="1719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29" name=""/>
          <p:cNvCxnSpPr>
            <a:stCxn id="1718" idx="3"/>
            <a:endCxn id="1720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30" name=""/>
          <p:cNvCxnSpPr>
            <a:stCxn id="1722" idx="0"/>
            <a:endCxn id="1721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731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248520" y="34290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7543440" y="365760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914400" y="3205080"/>
            <a:ext cx="4800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 inside fragment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lassificatio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4" name=""/>
          <p:cNvCxnSpPr>
            <a:stCxn id="1752" idx="7"/>
            <a:endCxn id="1748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5" name=""/>
          <p:cNvCxnSpPr>
            <a:stCxn id="1747" idx="6"/>
            <a:endCxn id="1750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56" name=""/>
          <p:cNvCxnSpPr>
            <a:stCxn id="1750" idx="0"/>
            <a:endCxn id="1748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7" name=""/>
          <p:cNvCxnSpPr>
            <a:stCxn id="1747" idx="3"/>
            <a:endCxn id="1753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58" name=""/>
          <p:cNvCxnSpPr>
            <a:stCxn id="1747" idx="5"/>
            <a:endCxn id="1749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38160">
            <a:solidFill>
              <a:srgbClr val="800080"/>
            </a:solidFill>
            <a:miter/>
          </a:ln>
        </p:spPr>
      </p:cxnSp>
      <p:cxnSp>
        <p:nvCxnSpPr>
          <p:cNvPr id="1759" name=""/>
          <p:cNvCxnSpPr>
            <a:stCxn id="1749" idx="0"/>
            <a:endCxn id="1750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60" name=""/>
          <p:cNvCxnSpPr>
            <a:stCxn id="1749" idx="3"/>
            <a:endCxn id="1751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61" name=""/>
          <p:cNvCxnSpPr>
            <a:stCxn id="1753" idx="0"/>
            <a:endCxn id="1752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762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6477120" y="525780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914400" y="3205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n MST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lass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4" name=""/>
          <p:cNvCxnSpPr>
            <a:stCxn id="1782" idx="7"/>
            <a:endCxn id="1778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5" name=""/>
          <p:cNvCxnSpPr>
            <a:stCxn id="1777" idx="6"/>
            <a:endCxn id="1780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86" name=""/>
          <p:cNvCxnSpPr>
            <a:stCxn id="1780" idx="0"/>
            <a:endCxn id="1778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7" name=""/>
          <p:cNvCxnSpPr>
            <a:stCxn id="1777" idx="3"/>
            <a:endCxn id="1783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88" name=""/>
          <p:cNvCxnSpPr>
            <a:stCxn id="1777" idx="5"/>
            <a:endCxn id="1779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79" idx="0"/>
            <a:endCxn id="1780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90" name=""/>
          <p:cNvCxnSpPr>
            <a:stCxn id="1779" idx="3"/>
            <a:endCxn id="1781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791" name=""/>
          <p:cNvCxnSpPr>
            <a:stCxn id="1783" idx="0"/>
            <a:endCxn id="1782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792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486400" y="45720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6400800" y="45720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43434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6858000" y="59436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620120" y="4952880"/>
            <a:ext cx="76176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14400" y="320508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ges (minimal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receiving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a node 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14400" y="270972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a minimum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"/>
          <p:cNvCxnSpPr>
            <a:stCxn id="1817" idx="7"/>
            <a:endCxn id="1813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arrow" w="lg"/>
          </a:ln>
        </p:spPr>
      </p:cxnSp>
      <p:cxnSp>
        <p:nvCxnSpPr>
          <p:cNvPr id="1820" name=""/>
          <p:cNvCxnSpPr>
            <a:stCxn id="1812" idx="6"/>
            <a:endCxn id="1815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21" name=""/>
          <p:cNvCxnSpPr>
            <a:stCxn id="1815" idx="0"/>
            <a:endCxn id="1813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</a:ln>
        </p:spPr>
      </p:cxnSp>
      <p:cxnSp>
        <p:nvCxnSpPr>
          <p:cNvPr id="1822" name=""/>
          <p:cNvCxnSpPr>
            <a:stCxn id="1812" idx="3"/>
            <a:endCxn id="1818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23" name=""/>
          <p:cNvCxnSpPr>
            <a:stCxn id="1812" idx="5"/>
            <a:endCxn id="1814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  <a:tailEnd len="lg" type="arrow" w="lg"/>
          </a:ln>
        </p:spPr>
      </p:cxnSp>
      <p:cxnSp>
        <p:nvCxnSpPr>
          <p:cNvPr id="1824" name=""/>
          <p:cNvCxnSpPr>
            <a:stCxn id="1814" idx="0"/>
            <a:endCxn id="1815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25" name=""/>
          <p:cNvCxnSpPr>
            <a:stCxn id="1814" idx="3"/>
            <a:endCxn id="1816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26" name=""/>
          <p:cNvCxnSpPr>
            <a:stCxn id="1818" idx="0"/>
            <a:endCxn id="1817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914400" y="3205080"/>
            <a:ext cx="42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same ident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receiving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8" name=""/>
          <p:cNvCxnSpPr>
            <a:stCxn id="1846" idx="7"/>
            <a:endCxn id="1842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9" name=""/>
          <p:cNvCxnSpPr>
            <a:stCxn id="1841" idx="6"/>
            <a:endCxn id="1844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50" name=""/>
          <p:cNvCxnSpPr>
            <a:stCxn id="1844" idx="0"/>
            <a:endCxn id="1842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1" name=""/>
          <p:cNvCxnSpPr>
            <a:stCxn id="1841" idx="3"/>
            <a:endCxn id="1847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52" name=""/>
          <p:cNvCxnSpPr>
            <a:stCxn id="1841" idx="5"/>
            <a:endCxn id="1843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  <a:tailEnd len="lg" type="arrow" w="lg"/>
          </a:ln>
        </p:spPr>
      </p:cxnSp>
      <p:cxnSp>
        <p:nvCxnSpPr>
          <p:cNvPr id="1853" name=""/>
          <p:cNvCxnSpPr>
            <a:stCxn id="1843" idx="0"/>
            <a:endCxn id="1844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54" name=""/>
          <p:cNvCxnSpPr>
            <a:stCxn id="1843" idx="3"/>
            <a:endCxn id="1845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55" name=""/>
          <p:cNvCxnSpPr>
            <a:stCxn id="1847" idx="0"/>
            <a:endCxn id="1846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856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914400" y="368604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, the edge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6477120" y="5334120"/>
            <a:ext cx="5331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914400" y="4602240"/>
            <a:ext cx="42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sent in both directions, the edge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matically without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010280" y="5105520"/>
            <a:ext cx="301680" cy="30168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914400" y="3205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 self lower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receiving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1" name=""/>
          <p:cNvCxnSpPr>
            <a:stCxn id="1879" idx="7"/>
            <a:endCxn id="1875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arrow" w="lg"/>
          </a:ln>
        </p:spPr>
      </p:cxnSp>
      <p:cxnSp>
        <p:nvCxnSpPr>
          <p:cNvPr id="1882" name=""/>
          <p:cNvCxnSpPr>
            <a:stCxn id="1874" idx="6"/>
            <a:endCxn id="1877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83" name=""/>
          <p:cNvCxnSpPr>
            <a:stCxn id="1877" idx="0"/>
            <a:endCxn id="1875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4" idx="3"/>
            <a:endCxn id="1880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85" name=""/>
          <p:cNvCxnSpPr>
            <a:stCxn id="1874" idx="5"/>
            <a:endCxn id="1876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76" idx="0"/>
            <a:endCxn id="1877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87" name=""/>
          <p:cNvCxnSpPr>
            <a:stCxn id="1876" idx="3"/>
            <a:endCxn id="1878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888" name=""/>
          <p:cNvCxnSpPr>
            <a:stCxn id="1880" idx="0"/>
            <a:endCxn id="1879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889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914400" y="368604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response until the identity rises suffici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934320" y="2971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8153280" y="4343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7391520" y="3276720"/>
            <a:ext cx="83808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924680" y="27432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248520" y="34290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914400" y="3205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 self higher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receiving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6" name=""/>
          <p:cNvCxnSpPr>
            <a:stCxn id="1914" idx="7"/>
            <a:endCxn id="1910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7" name=""/>
          <p:cNvCxnSpPr>
            <a:stCxn id="1909" idx="6"/>
            <a:endCxn id="1912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18" name=""/>
          <p:cNvCxnSpPr>
            <a:stCxn id="1912" idx="0"/>
            <a:endCxn id="1910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</a:ln>
        </p:spPr>
      </p:cxnSp>
      <p:cxnSp>
        <p:nvCxnSpPr>
          <p:cNvPr id="1919" name=""/>
          <p:cNvCxnSpPr>
            <a:stCxn id="1909" idx="3"/>
            <a:endCxn id="1915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20" name=""/>
          <p:cNvCxnSpPr>
            <a:stCxn id="1909" idx="5"/>
            <a:endCxn id="1911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1" idx="0"/>
            <a:endCxn id="1912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22" name=""/>
          <p:cNvCxnSpPr>
            <a:stCxn id="1911" idx="3"/>
            <a:endCxn id="1913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23" name=""/>
          <p:cNvCxnSpPr>
            <a:stCxn id="1915" idx="0"/>
            <a:endCxn id="1914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1924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914400" y="3686040"/>
            <a:ext cx="42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934320" y="2971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8153280" y="4343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7543440" y="365760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914400" y="417672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dge is accepted as a candi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238880" y="4038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914400" y="3205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se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along the branches of the M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2" name=""/>
          <p:cNvCxnSpPr>
            <a:stCxn id="1950" idx="7"/>
            <a:endCxn id="1946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45" idx="6"/>
            <a:endCxn id="1948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54" name=""/>
          <p:cNvCxnSpPr>
            <a:stCxn id="1948" idx="0"/>
            <a:endCxn id="1946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945" idx="3"/>
            <a:endCxn id="1951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cxnSp>
        <p:nvCxnSpPr>
          <p:cNvPr id="1956" name=""/>
          <p:cNvCxnSpPr>
            <a:stCxn id="1945" idx="5"/>
            <a:endCxn id="1947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947" idx="0"/>
            <a:endCxn id="1948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med" type="triangle" w="med"/>
          </a:ln>
        </p:spPr>
      </p:cxnSp>
      <p:cxnSp>
        <p:nvCxnSpPr>
          <p:cNvPr id="1958" name=""/>
          <p:cNvCxnSpPr>
            <a:stCxn id="1947" idx="3"/>
            <a:endCxn id="1949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cxnSp>
        <p:nvCxnSpPr>
          <p:cNvPr id="1959" name=""/>
          <p:cNvCxnSpPr>
            <a:stCxn id="1951" idx="0"/>
            <a:endCxn id="1950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sp>
        <p:nvSpPr>
          <p:cNvPr id="1960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914400" y="41767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outgoing edge was found the algorithm i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914400" y="3205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se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along the branches of the M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1" name=""/>
          <p:cNvCxnSpPr>
            <a:stCxn id="1979" idx="7"/>
            <a:endCxn id="1975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2" name=""/>
          <p:cNvCxnSpPr>
            <a:stCxn id="1974" idx="6"/>
            <a:endCxn id="1977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1983" name=""/>
          <p:cNvCxnSpPr>
            <a:stCxn id="1977" idx="0"/>
            <a:endCxn id="1975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4" name=""/>
          <p:cNvCxnSpPr>
            <a:stCxn id="1974" idx="3"/>
            <a:endCxn id="1980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cxnSp>
        <p:nvCxnSpPr>
          <p:cNvPr id="1985" name=""/>
          <p:cNvCxnSpPr>
            <a:stCxn id="1974" idx="5"/>
            <a:endCxn id="1976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6" name=""/>
          <p:cNvCxnSpPr>
            <a:stCxn id="1976" idx="0"/>
            <a:endCxn id="1977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med" type="triangle" w="med"/>
          </a:ln>
        </p:spPr>
      </p:cxnSp>
      <p:cxnSp>
        <p:nvCxnSpPr>
          <p:cNvPr id="1987" name=""/>
          <p:cNvCxnSpPr>
            <a:stCxn id="1976" idx="3"/>
            <a:endCxn id="1978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cxnSp>
        <p:nvCxnSpPr>
          <p:cNvPr id="1988" name=""/>
          <p:cNvCxnSpPr>
            <a:stCxn id="1980" idx="0"/>
            <a:endCxn id="1979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sp>
        <p:nvSpPr>
          <p:cNvPr id="1989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417672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outgoing edge was found the algorithm i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5500800"/>
            <a:ext cx="42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ending they go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914400" y="3205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leaf send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resolved its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"/>
          <p:cNvCxnSpPr>
            <a:stCxn id="2010" idx="7"/>
            <a:endCxn id="2006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3" name=""/>
          <p:cNvCxnSpPr>
            <a:stCxn id="2005" idx="6"/>
            <a:endCxn id="2008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14" name=""/>
          <p:cNvCxnSpPr>
            <a:stCxn id="2008" idx="0"/>
            <a:endCxn id="2006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05" idx="3"/>
            <a:endCxn id="2011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16" name=""/>
          <p:cNvCxnSpPr>
            <a:stCxn id="2005" idx="5"/>
            <a:endCxn id="2007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07" idx="0"/>
            <a:endCxn id="2008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18" name=""/>
          <p:cNvCxnSpPr>
            <a:stCxn id="2007" idx="3"/>
            <a:endCxn id="2009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19" name=""/>
          <p:cNvCxnSpPr>
            <a:stCxn id="2011" idx="0"/>
            <a:endCxn id="2010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020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248520" y="34290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259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1600200"/>
            <a:ext cx="7772400" cy="2022480"/>
            <a:chOff x="685800" y="1600200"/>
            <a:chExt cx="7772400" cy="2022480"/>
          </a:xfrm>
        </p:grpSpPr>
        <p:sp>
          <p:nvSpPr>
            <p:cNvPr id="120" name=""/>
            <p:cNvSpPr/>
            <p:nvPr/>
          </p:nvSpPr>
          <p:spPr>
            <a:xfrm>
              <a:off x="685800" y="1600200"/>
              <a:ext cx="55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33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602160" y="2209680"/>
            <a:ext cx="1979640" cy="57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02160" y="2209680"/>
                      <a:ext cx="19796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905040" y="222876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panning t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2728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33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 that the sum                  is minimiz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3505320" y="2652840"/>
            <a:ext cx="1476360" cy="96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2652840"/>
                      <a:ext cx="147636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11720" y="4800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2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3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9800" y="4648320"/>
            <a:ext cx="30492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3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78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25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7"/>
            <a:endCxn id="129" idx="3"/>
          </p:cNvCxnSpPr>
          <p:nvPr/>
        </p:nvCxnSpPr>
        <p:spPr>
          <a:xfrm flipV="1">
            <a:off x="4038120" y="3841560"/>
            <a:ext cx="699480" cy="54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36" name=""/>
          <p:cNvCxnSpPr>
            <a:stCxn id="128" idx="5"/>
            <a:endCxn id="130" idx="1"/>
          </p:cNvCxnSpPr>
          <p:nvPr/>
        </p:nvCxnSpPr>
        <p:spPr>
          <a:xfrm>
            <a:off x="4571640" y="5060880"/>
            <a:ext cx="546480" cy="3945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37" name=""/>
          <p:cNvGrpSpPr/>
          <p:nvPr/>
        </p:nvGrpSpPr>
        <p:grpSpPr>
          <a:xfrm>
            <a:off x="3777840" y="3841560"/>
            <a:ext cx="1524240" cy="2146320"/>
            <a:chOff x="3777840" y="3841560"/>
            <a:chExt cx="1524240" cy="2146320"/>
          </a:xfrm>
        </p:grpSpPr>
        <p:cxnSp>
          <p:nvCxnSpPr>
            <p:cNvPr id="138" name=""/>
            <p:cNvCxnSpPr>
              <a:stCxn id="128" idx="6"/>
              <a:endCxn id="131" idx="2"/>
            </p:cNvCxnSpPr>
            <p:nvPr/>
          </p:nvCxnSpPr>
          <p:spPr>
            <a:xfrm flipV="1">
              <a:off x="4616280" y="4799880"/>
              <a:ext cx="534240" cy="15300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39" name=""/>
            <p:cNvCxnSpPr>
              <a:stCxn id="131" idx="0"/>
              <a:endCxn id="129" idx="5"/>
            </p:cNvCxnSpPr>
            <p:nvPr/>
          </p:nvCxnSpPr>
          <p:spPr>
            <a:xfrm flipH="1" flipV="1">
              <a:off x="4952520" y="3841560"/>
              <a:ext cx="349920" cy="8071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40" name=""/>
            <p:cNvCxnSpPr>
              <a:stCxn id="128" idx="3"/>
              <a:endCxn id="134" idx="7"/>
            </p:cNvCxnSpPr>
            <p:nvPr/>
          </p:nvCxnSpPr>
          <p:spPr>
            <a:xfrm flipH="1">
              <a:off x="3885480" y="5060880"/>
              <a:ext cx="47052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41" name=""/>
            <p:cNvCxnSpPr>
              <a:stCxn id="130" idx="0"/>
              <a:endCxn id="131" idx="4"/>
            </p:cNvCxnSpPr>
            <p:nvPr/>
          </p:nvCxnSpPr>
          <p:spPr>
            <a:xfrm flipV="1">
              <a:off x="5225760" y="4952520"/>
              <a:ext cx="76680" cy="4579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42" name=""/>
            <p:cNvCxnSpPr>
              <a:stCxn id="130" idx="3"/>
              <a:endCxn id="132" idx="7"/>
            </p:cNvCxnSpPr>
            <p:nvPr/>
          </p:nvCxnSpPr>
          <p:spPr>
            <a:xfrm flipH="1">
              <a:off x="4343040" y="5670360"/>
              <a:ext cx="775440" cy="3178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143" name=""/>
            <p:cNvCxnSpPr>
              <a:stCxn id="134" idx="0"/>
              <a:endCxn id="133" idx="4"/>
            </p:cNvCxnSpPr>
            <p:nvPr/>
          </p:nvCxnSpPr>
          <p:spPr>
            <a:xfrm flipV="1">
              <a:off x="3777840" y="4647600"/>
              <a:ext cx="153000" cy="68652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</p:grpSp>
      <p:sp>
        <p:nvSpPr>
          <p:cNvPr id="144" name=""/>
          <p:cNvSpPr/>
          <p:nvPr/>
        </p:nvSpPr>
        <p:spPr>
          <a:xfrm>
            <a:off x="3625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59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35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68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92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8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92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914400" y="3205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leaf send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resolved its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2" name=""/>
          <p:cNvCxnSpPr>
            <a:stCxn id="2040" idx="7"/>
            <a:endCxn id="2036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3" name=""/>
          <p:cNvCxnSpPr>
            <a:stCxn id="2035" idx="6"/>
            <a:endCxn id="2038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44" name=""/>
          <p:cNvCxnSpPr>
            <a:stCxn id="2038" idx="0"/>
            <a:endCxn id="2036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5" name=""/>
          <p:cNvCxnSpPr>
            <a:stCxn id="2035" idx="3"/>
            <a:endCxn id="2041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46" name=""/>
          <p:cNvCxnSpPr>
            <a:stCxn id="2035" idx="5"/>
            <a:endCxn id="2037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7" name=""/>
          <p:cNvCxnSpPr>
            <a:stCxn id="2037" idx="0"/>
            <a:endCxn id="2038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48" name=""/>
          <p:cNvCxnSpPr>
            <a:stCxn id="2037" idx="3"/>
            <a:endCxn id="2039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49" name=""/>
          <p:cNvCxnSpPr>
            <a:stCxn id="2041" idx="0"/>
            <a:endCxn id="2040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headEnd len="med" type="triangle" w="med"/>
          </a:ln>
        </p:spPr>
      </p:cxnSp>
      <p:sp>
        <p:nvSpPr>
          <p:cNvPr id="2050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248520" y="34290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914400" y="320508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interior send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resolved its outgoing and all its children sent the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2" name=""/>
          <p:cNvCxnSpPr>
            <a:stCxn id="2070" idx="7"/>
            <a:endCxn id="2066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3" name=""/>
          <p:cNvCxnSpPr>
            <a:stCxn id="2065" idx="6"/>
            <a:endCxn id="2068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74" name=""/>
          <p:cNvCxnSpPr>
            <a:stCxn id="2068" idx="0"/>
            <a:endCxn id="2066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5" name=""/>
          <p:cNvCxnSpPr>
            <a:stCxn id="2065" idx="3"/>
            <a:endCxn id="2071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76" name=""/>
          <p:cNvCxnSpPr>
            <a:stCxn id="2065" idx="5"/>
            <a:endCxn id="2067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7" name=""/>
          <p:cNvCxnSpPr>
            <a:stCxn id="2067" idx="0"/>
            <a:endCxn id="2068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78" name=""/>
          <p:cNvCxnSpPr>
            <a:stCxn id="2067" idx="3"/>
            <a:endCxn id="2069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079" name=""/>
          <p:cNvCxnSpPr>
            <a:stCxn id="2071" idx="0"/>
            <a:endCxn id="2070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080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6629400" y="52578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6934320" y="594324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914400" y="320508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interior send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resolved its outgoing and all its children sent the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3" name=""/>
          <p:cNvCxnSpPr>
            <a:stCxn id="2101" idx="7"/>
            <a:endCxn id="2097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4" name=""/>
          <p:cNvCxnSpPr>
            <a:stCxn id="2096" idx="6"/>
            <a:endCxn id="2099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05" name=""/>
          <p:cNvCxnSpPr>
            <a:stCxn id="2099" idx="0"/>
            <a:endCxn id="2097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6" name=""/>
          <p:cNvCxnSpPr>
            <a:stCxn id="2096" idx="3"/>
            <a:endCxn id="2102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07" name=""/>
          <p:cNvCxnSpPr>
            <a:stCxn id="2096" idx="5"/>
            <a:endCxn id="2098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8" name=""/>
          <p:cNvCxnSpPr>
            <a:stCxn id="2098" idx="0"/>
            <a:endCxn id="2099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8000"/>
            </a:solidFill>
            <a:miter/>
            <a:tailEnd len="med" type="triangle" w="med"/>
          </a:ln>
        </p:spPr>
      </p:cxnSp>
      <p:cxnSp>
        <p:nvCxnSpPr>
          <p:cNvPr id="2109" name=""/>
          <p:cNvCxnSpPr>
            <a:stCxn id="2098" idx="3"/>
            <a:endCxn id="2100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10" name=""/>
          <p:cNvCxnSpPr>
            <a:stCxn id="2102" idx="0"/>
            <a:endCxn id="2101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111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6629400" y="52578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6934320" y="594324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2" name=""/>
          <p:cNvCxnSpPr>
            <a:stCxn id="2130" idx="7"/>
            <a:endCxn id="2126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3" name=""/>
          <p:cNvCxnSpPr>
            <a:stCxn id="2125" idx="6"/>
            <a:endCxn id="2128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34" name=""/>
          <p:cNvCxnSpPr>
            <a:stCxn id="2128" idx="0"/>
            <a:endCxn id="2126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5" name=""/>
          <p:cNvCxnSpPr>
            <a:stCxn id="2125" idx="3"/>
            <a:endCxn id="2131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36" name=""/>
          <p:cNvCxnSpPr>
            <a:stCxn id="2125" idx="5"/>
            <a:endCxn id="2127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7" name=""/>
          <p:cNvCxnSpPr>
            <a:stCxn id="2127" idx="0"/>
            <a:endCxn id="2128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38" name=""/>
          <p:cNvCxnSpPr>
            <a:stCxn id="2127" idx="3"/>
            <a:endCxn id="2129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39" name=""/>
          <p:cNvCxnSpPr>
            <a:stCxn id="2131" idx="0"/>
            <a:endCxn id="2130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140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914400" y="320508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node remembers the branch to the minimal outgoing edge of its sub-tree, deno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edg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6248520" y="3124080"/>
            <a:ext cx="2514600" cy="914400"/>
            <a:chOff x="6248520" y="3124080"/>
            <a:chExt cx="2514600" cy="914400"/>
          </a:xfrm>
        </p:grpSpPr>
        <p:sp>
          <p:nvSpPr>
            <p:cNvPr id="2152" name=""/>
            <p:cNvSpPr/>
            <p:nvPr/>
          </p:nvSpPr>
          <p:spPr>
            <a:xfrm flipH="1">
              <a:off x="7543440" y="3657600"/>
              <a:ext cx="685800" cy="3808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248520" y="3429000"/>
              <a:ext cx="380880" cy="45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924680" y="312408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go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4343400" y="4572000"/>
            <a:ext cx="2133720" cy="685800"/>
            <a:chOff x="4343400" y="4572000"/>
            <a:chExt cx="2133720" cy="685800"/>
          </a:xfrm>
        </p:grpSpPr>
        <p:sp>
          <p:nvSpPr>
            <p:cNvPr id="2156" name=""/>
            <p:cNvSpPr/>
            <p:nvPr/>
          </p:nvSpPr>
          <p:spPr>
            <a:xfrm flipV="1">
              <a:off x="5486400" y="4800240"/>
              <a:ext cx="5335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6400800" y="4572000"/>
              <a:ext cx="76320" cy="533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43400" y="47242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est-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outgoing 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9" name=""/>
          <p:cNvCxnSpPr>
            <a:stCxn id="2167" idx="7"/>
            <a:endCxn id="2163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0" name=""/>
          <p:cNvCxnSpPr>
            <a:stCxn id="2162" idx="6"/>
            <a:endCxn id="2165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  <a:tailEnd len="lg" type="arrow" w="lg"/>
          </a:ln>
        </p:spPr>
      </p:cxnSp>
      <p:cxnSp>
        <p:nvCxnSpPr>
          <p:cNvPr id="2171" name=""/>
          <p:cNvCxnSpPr>
            <a:stCxn id="2165" idx="0"/>
            <a:endCxn id="2163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2" name=""/>
          <p:cNvCxnSpPr>
            <a:stCxn id="2162" idx="3"/>
            <a:endCxn id="2168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73" name=""/>
          <p:cNvCxnSpPr>
            <a:stCxn id="2162" idx="5"/>
            <a:endCxn id="2164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4" name=""/>
          <p:cNvCxnSpPr>
            <a:stCxn id="2164" idx="0"/>
            <a:endCxn id="2165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75" name=""/>
          <p:cNvCxnSpPr>
            <a:stCxn id="2164" idx="3"/>
            <a:endCxn id="2166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176" name=""/>
          <p:cNvCxnSpPr>
            <a:stCxn id="2168" idx="0"/>
            <a:endCxn id="2167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177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ing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914400" y="32050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e adjacent nodes exchang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ecide on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858000" y="4419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9" name=""/>
          <p:cNvCxnSpPr>
            <a:stCxn id="2197" idx="7"/>
            <a:endCxn id="2193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0" name=""/>
          <p:cNvCxnSpPr>
            <a:stCxn id="2192" idx="6"/>
            <a:endCxn id="2195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  <a:tailEnd len="lg" type="arrow" w="lg"/>
          </a:ln>
        </p:spPr>
      </p:cxnSp>
      <p:cxnSp>
        <p:nvCxnSpPr>
          <p:cNvPr id="2201" name=""/>
          <p:cNvCxnSpPr>
            <a:stCxn id="2195" idx="0"/>
            <a:endCxn id="2193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2" name=""/>
          <p:cNvCxnSpPr>
            <a:stCxn id="2192" idx="3"/>
            <a:endCxn id="2198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03" name=""/>
          <p:cNvCxnSpPr>
            <a:stCxn id="2192" idx="5"/>
            <a:endCxn id="2194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4" name=""/>
          <p:cNvCxnSpPr>
            <a:stCxn id="2194" idx="0"/>
            <a:endCxn id="2195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05" name=""/>
          <p:cNvCxnSpPr>
            <a:stCxn id="2194" idx="3"/>
            <a:endCxn id="2196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06" name=""/>
          <p:cNvCxnSpPr>
            <a:stCxn id="2198" idx="0"/>
            <a:endCxn id="2197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207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914400" y="32050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cid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-co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is sent over branches to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6858000" y="4419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7543440" y="3657600"/>
            <a:ext cx="685800" cy="3808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79246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914400" y="45385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to the new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597720" y="4800600"/>
            <a:ext cx="30456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978600" y="35812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7359480" y="54100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7435800" y="4648320"/>
            <a:ext cx="30492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6369120" y="5943600"/>
            <a:ext cx="30456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6064200" y="43434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911920" y="53341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1" name=""/>
          <p:cNvCxnSpPr>
            <a:stCxn id="2229" idx="7"/>
            <a:endCxn id="2225" idx="3"/>
          </p:cNvCxnSpPr>
          <p:nvPr/>
        </p:nvCxnSpPr>
        <p:spPr>
          <a:xfrm flipV="1">
            <a:off x="6324120" y="3841560"/>
            <a:ext cx="6994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2" name=""/>
          <p:cNvCxnSpPr>
            <a:stCxn id="2224" idx="6"/>
            <a:endCxn id="2227" idx="2"/>
          </p:cNvCxnSpPr>
          <p:nvPr/>
        </p:nvCxnSpPr>
        <p:spPr>
          <a:xfrm flipV="1">
            <a:off x="6902280" y="4799880"/>
            <a:ext cx="534240" cy="153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headEnd len="lg" type="arrow" w="lg"/>
            <a:tailEnd len="lg" type="arrow" w="lg"/>
          </a:ln>
        </p:spPr>
      </p:cxnSp>
      <p:cxnSp>
        <p:nvCxnSpPr>
          <p:cNvPr id="2233" name=""/>
          <p:cNvCxnSpPr>
            <a:stCxn id="2227" idx="0"/>
            <a:endCxn id="2225" idx="5"/>
          </p:cNvCxnSpPr>
          <p:nvPr/>
        </p:nvCxnSpPr>
        <p:spPr>
          <a:xfrm flipH="1" flipV="1">
            <a:off x="7238520" y="3841560"/>
            <a:ext cx="349920" cy="807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lg" type="arrow" w="lg"/>
          </a:ln>
        </p:spPr>
      </p:cxnSp>
      <p:cxnSp>
        <p:nvCxnSpPr>
          <p:cNvPr id="2234" name=""/>
          <p:cNvCxnSpPr>
            <a:stCxn id="2224" idx="3"/>
            <a:endCxn id="2230" idx="7"/>
          </p:cNvCxnSpPr>
          <p:nvPr/>
        </p:nvCxnSpPr>
        <p:spPr>
          <a:xfrm flipH="1">
            <a:off x="6171480" y="5060880"/>
            <a:ext cx="47052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35" name=""/>
          <p:cNvCxnSpPr>
            <a:stCxn id="2224" idx="5"/>
            <a:endCxn id="2226" idx="1"/>
          </p:cNvCxnSpPr>
          <p:nvPr/>
        </p:nvCxnSpPr>
        <p:spPr>
          <a:xfrm>
            <a:off x="6857640" y="5060880"/>
            <a:ext cx="5464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6" name=""/>
          <p:cNvCxnSpPr>
            <a:stCxn id="2226" idx="0"/>
            <a:endCxn id="2227" idx="4"/>
          </p:cNvCxnSpPr>
          <p:nvPr/>
        </p:nvCxnSpPr>
        <p:spPr>
          <a:xfrm flipV="1">
            <a:off x="7511760" y="4952520"/>
            <a:ext cx="76680" cy="4579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37" name=""/>
          <p:cNvCxnSpPr>
            <a:stCxn id="2226" idx="3"/>
            <a:endCxn id="2228" idx="7"/>
          </p:cNvCxnSpPr>
          <p:nvPr/>
        </p:nvCxnSpPr>
        <p:spPr>
          <a:xfrm flipH="1">
            <a:off x="6629040" y="5670360"/>
            <a:ext cx="775440" cy="31788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238" name=""/>
          <p:cNvCxnSpPr>
            <a:stCxn id="2230" idx="0"/>
            <a:endCxn id="2229" idx="4"/>
          </p:cNvCxnSpPr>
          <p:nvPr/>
        </p:nvCxnSpPr>
        <p:spPr>
          <a:xfrm flipV="1">
            <a:off x="6063840" y="4647600"/>
            <a:ext cx="15300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239" name=""/>
          <p:cNvSpPr/>
          <p:nvPr/>
        </p:nvSpPr>
        <p:spPr>
          <a:xfrm>
            <a:off x="5911920" y="48006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7421400" y="397656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7054920" y="45720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978600" y="5776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354720" y="513396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7545240" y="5014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978600" y="51814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764400" y="3390840"/>
            <a:ext cx="711000" cy="7495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445080" y="38718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6858000" y="4419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7543440" y="3657600"/>
            <a:ext cx="685800" cy="3808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7924680" y="31240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914400" y="45435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to the new 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14400" y="32050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cid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-co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is sent over branches to the minimal outgoing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914400" y="54529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is sent over the minimal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460840" y="3860640"/>
            <a:ext cx="3200400" cy="2883240"/>
          </a:xfrm>
          <a:custGeom>
            <a:avLst/>
            <a:gdLst/>
            <a:ahLst/>
            <a:rect l="l" t="t" r="r" b="b"/>
            <a:pathLst>
              <a:path w="2016" h="1816">
                <a:moveTo>
                  <a:pt x="304" y="208"/>
                </a:moveTo>
                <a:cubicBezTo>
                  <a:pt x="384" y="0"/>
                  <a:pt x="416" y="32"/>
                  <a:pt x="544" y="64"/>
                </a:cubicBezTo>
                <a:cubicBezTo>
                  <a:pt x="672" y="96"/>
                  <a:pt x="928" y="384"/>
                  <a:pt x="1072" y="400"/>
                </a:cubicBezTo>
                <a:cubicBezTo>
                  <a:pt x="1216" y="416"/>
                  <a:pt x="1272" y="32"/>
                  <a:pt x="1408" y="160"/>
                </a:cubicBezTo>
                <a:cubicBezTo>
                  <a:pt x="1544" y="288"/>
                  <a:pt x="2016" y="896"/>
                  <a:pt x="1888" y="1168"/>
                </a:cubicBezTo>
                <a:cubicBezTo>
                  <a:pt x="1760" y="1440"/>
                  <a:pt x="944" y="1768"/>
                  <a:pt x="640" y="1792"/>
                </a:cubicBezTo>
                <a:cubicBezTo>
                  <a:pt x="336" y="1816"/>
                  <a:pt x="128" y="1576"/>
                  <a:pt x="64" y="1312"/>
                </a:cubicBezTo>
                <a:cubicBezTo>
                  <a:pt x="0" y="1048"/>
                  <a:pt x="224" y="416"/>
                  <a:pt x="304" y="208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same level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6064200" y="3733920"/>
            <a:ext cx="1861920" cy="2666520"/>
            <a:chOff x="6064200" y="3733920"/>
            <a:chExt cx="1861920" cy="2666520"/>
          </a:xfrm>
        </p:grpSpPr>
        <p:sp>
          <p:nvSpPr>
            <p:cNvPr id="2261" name=""/>
            <p:cNvSpPr/>
            <p:nvPr/>
          </p:nvSpPr>
          <p:spPr>
            <a:xfrm>
              <a:off x="6750000" y="49528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130880" y="37339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511760" y="556236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588080" y="4800600"/>
              <a:ext cx="304920" cy="30420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521400" y="609588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216480" y="449568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64200" y="5486400"/>
              <a:ext cx="304560" cy="30420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8" name=""/>
            <p:cNvCxnSpPr>
              <a:stCxn id="2266" idx="7"/>
              <a:endCxn id="2262" idx="3"/>
            </p:cNvCxnSpPr>
            <p:nvPr/>
          </p:nvCxnSpPr>
          <p:spPr>
            <a:xfrm flipV="1">
              <a:off x="6476400" y="3993480"/>
              <a:ext cx="699480" cy="54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9" name=""/>
            <p:cNvCxnSpPr>
              <a:stCxn id="2261" idx="6"/>
              <a:endCxn id="2264" idx="2"/>
            </p:cNvCxnSpPr>
            <p:nvPr/>
          </p:nvCxnSpPr>
          <p:spPr>
            <a:xfrm flipV="1">
              <a:off x="7054560" y="4952520"/>
              <a:ext cx="534240" cy="15264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cxnSp>
          <p:nvCxnSpPr>
            <p:cNvPr id="2270" name=""/>
            <p:cNvCxnSpPr>
              <a:stCxn id="2264" idx="0"/>
              <a:endCxn id="2262" idx="5"/>
            </p:cNvCxnSpPr>
            <p:nvPr/>
          </p:nvCxnSpPr>
          <p:spPr>
            <a:xfrm flipH="1" flipV="1">
              <a:off x="7390800" y="3993480"/>
              <a:ext cx="349920" cy="80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1" name=""/>
            <p:cNvCxnSpPr>
              <a:stCxn id="2261" idx="3"/>
              <a:endCxn id="2267" idx="7"/>
            </p:cNvCxnSpPr>
            <p:nvPr/>
          </p:nvCxnSpPr>
          <p:spPr>
            <a:xfrm flipH="1">
              <a:off x="6323760" y="5212800"/>
              <a:ext cx="47052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2" name=""/>
            <p:cNvCxnSpPr>
              <a:stCxn id="2261" idx="5"/>
              <a:endCxn id="2263" idx="1"/>
            </p:cNvCxnSpPr>
            <p:nvPr/>
          </p:nvCxnSpPr>
          <p:spPr>
            <a:xfrm>
              <a:off x="7009920" y="5212800"/>
              <a:ext cx="546480" cy="39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3" name=""/>
            <p:cNvCxnSpPr>
              <a:stCxn id="2263" idx="0"/>
              <a:endCxn id="2264" idx="4"/>
            </p:cNvCxnSpPr>
            <p:nvPr/>
          </p:nvCxnSpPr>
          <p:spPr>
            <a:xfrm flipV="1">
              <a:off x="7664040" y="5104440"/>
              <a:ext cx="76680" cy="45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4" name=""/>
            <p:cNvCxnSpPr>
              <a:stCxn id="2263" idx="3"/>
              <a:endCxn id="2265" idx="7"/>
            </p:cNvCxnSpPr>
            <p:nvPr/>
          </p:nvCxnSpPr>
          <p:spPr>
            <a:xfrm flipH="1">
              <a:off x="6781320" y="5823000"/>
              <a:ext cx="77544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5" name=""/>
            <p:cNvCxnSpPr>
              <a:stCxn id="2267" idx="0"/>
              <a:endCxn id="2266" idx="4"/>
            </p:cNvCxnSpPr>
            <p:nvPr/>
          </p:nvCxnSpPr>
          <p:spPr>
            <a:xfrm flipV="1">
              <a:off x="6216120" y="4800240"/>
              <a:ext cx="153000" cy="68616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  <p:sp>
          <p:nvSpPr>
            <p:cNvPr id="2276" name=""/>
            <p:cNvSpPr/>
            <p:nvPr/>
          </p:nvSpPr>
          <p:spPr>
            <a:xfrm>
              <a:off x="6064200" y="4952880"/>
              <a:ext cx="2286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597360" y="4024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573680" y="412884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207200" y="4724280"/>
              <a:ext cx="2286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130880" y="5929200"/>
              <a:ext cx="2286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507000" y="5286240"/>
              <a:ext cx="2286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697520" y="516708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130880" y="53337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4" name=""/>
          <p:cNvSpPr/>
          <p:nvPr/>
        </p:nvSpPr>
        <p:spPr>
          <a:xfrm>
            <a:off x="6921360" y="3543480"/>
            <a:ext cx="711360" cy="7491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854680" y="4229280"/>
            <a:ext cx="787320" cy="190476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5486400" y="46483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8077320" y="48006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791320" y="44197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8305920" y="45720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6515280" y="4610160"/>
            <a:ext cx="1562040" cy="838080"/>
          </a:xfrm>
          <a:custGeom>
            <a:avLst/>
            <a:gdLst/>
            <a:ahLst/>
            <a:rect l="l" t="t" r="r" b="b"/>
            <a:pathLst>
              <a:path w="984" h="528">
                <a:moveTo>
                  <a:pt x="120" y="216"/>
                </a:moveTo>
                <a:cubicBezTo>
                  <a:pt x="0" y="296"/>
                  <a:pt x="48" y="480"/>
                  <a:pt x="120" y="504"/>
                </a:cubicBezTo>
                <a:cubicBezTo>
                  <a:pt x="192" y="528"/>
                  <a:pt x="416" y="384"/>
                  <a:pt x="552" y="360"/>
                </a:cubicBezTo>
                <a:cubicBezTo>
                  <a:pt x="688" y="336"/>
                  <a:pt x="888" y="416"/>
                  <a:pt x="936" y="360"/>
                </a:cubicBezTo>
                <a:cubicBezTo>
                  <a:pt x="984" y="304"/>
                  <a:pt x="976" y="48"/>
                  <a:pt x="840" y="24"/>
                </a:cubicBezTo>
                <a:cubicBezTo>
                  <a:pt x="704" y="0"/>
                  <a:pt x="240" y="136"/>
                  <a:pt x="12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914400" y="32050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core adjacent nodes sen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, which causes the level to be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same level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750000" y="4952880"/>
            <a:ext cx="30492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7130880" y="3733920"/>
            <a:ext cx="30492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7512120" y="5562720"/>
            <a:ext cx="304560" cy="30456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7588080" y="480060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6521400" y="60958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6216480" y="4495680"/>
            <a:ext cx="304920" cy="304920"/>
          </a:xfrm>
          <a:prstGeom prst="ellipse">
            <a:avLst/>
          </a:prstGeom>
          <a:solidFill>
            <a:srgbClr val="39858b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6064200" y="5486400"/>
            <a:ext cx="304920" cy="30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398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2" name=""/>
          <p:cNvCxnSpPr>
            <a:stCxn id="2300" idx="7"/>
            <a:endCxn id="2296" idx="3"/>
          </p:cNvCxnSpPr>
          <p:nvPr/>
        </p:nvCxnSpPr>
        <p:spPr>
          <a:xfrm flipV="1">
            <a:off x="6477120" y="3993840"/>
            <a:ext cx="6991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3" name=""/>
          <p:cNvCxnSpPr>
            <a:stCxn id="2295" idx="6"/>
            <a:endCxn id="2298" idx="2"/>
          </p:cNvCxnSpPr>
          <p:nvPr/>
        </p:nvCxnSpPr>
        <p:spPr>
          <a:xfrm flipV="1">
            <a:off x="7054560" y="4952520"/>
            <a:ext cx="533880" cy="15336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cxnSp>
        <p:nvCxnSpPr>
          <p:cNvPr id="2304" name=""/>
          <p:cNvCxnSpPr>
            <a:stCxn id="2298" idx="0"/>
            <a:endCxn id="2296" idx="5"/>
          </p:cNvCxnSpPr>
          <p:nvPr/>
        </p:nvCxnSpPr>
        <p:spPr>
          <a:xfrm flipH="1" flipV="1">
            <a:off x="7391160" y="3993840"/>
            <a:ext cx="3499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5" name=""/>
          <p:cNvCxnSpPr>
            <a:stCxn id="2295" idx="3"/>
            <a:endCxn id="2301" idx="7"/>
          </p:cNvCxnSpPr>
          <p:nvPr/>
        </p:nvCxnSpPr>
        <p:spPr>
          <a:xfrm flipH="1">
            <a:off x="6324120" y="5213160"/>
            <a:ext cx="470880" cy="3178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6" name=""/>
          <p:cNvCxnSpPr>
            <a:stCxn id="2295" idx="5"/>
            <a:endCxn id="2297" idx="1"/>
          </p:cNvCxnSpPr>
          <p:nvPr/>
        </p:nvCxnSpPr>
        <p:spPr>
          <a:xfrm>
            <a:off x="7009920" y="5213160"/>
            <a:ext cx="5464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7" name=""/>
          <p:cNvCxnSpPr>
            <a:stCxn id="2297" idx="0"/>
            <a:endCxn id="2298" idx="4"/>
          </p:cNvCxnSpPr>
          <p:nvPr/>
        </p:nvCxnSpPr>
        <p:spPr>
          <a:xfrm flipV="1">
            <a:off x="7664400" y="5105160"/>
            <a:ext cx="766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8" name=""/>
          <p:cNvCxnSpPr>
            <a:stCxn id="2297" idx="3"/>
            <a:endCxn id="2299" idx="7"/>
          </p:cNvCxnSpPr>
          <p:nvPr/>
        </p:nvCxnSpPr>
        <p:spPr>
          <a:xfrm flipH="1">
            <a:off x="6781320" y="5823000"/>
            <a:ext cx="77544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9" name=""/>
          <p:cNvCxnSpPr>
            <a:stCxn id="2301" idx="0"/>
            <a:endCxn id="2300" idx="4"/>
          </p:cNvCxnSpPr>
          <p:nvPr/>
        </p:nvCxnSpPr>
        <p:spPr>
          <a:xfrm flipV="1">
            <a:off x="6216480" y="4799880"/>
            <a:ext cx="153360" cy="686520"/>
          </a:xfrm>
          <a:prstGeom prst="straightConnector1">
            <a:avLst/>
          </a:prstGeom>
          <a:ln w="25560">
            <a:solidFill>
              <a:srgbClr val="800000"/>
            </a:solidFill>
            <a:miter/>
          </a:ln>
        </p:spPr>
      </p:cxnSp>
      <p:sp>
        <p:nvSpPr>
          <p:cNvPr id="2310" name=""/>
          <p:cNvSpPr/>
          <p:nvPr/>
        </p:nvSpPr>
        <p:spPr>
          <a:xfrm>
            <a:off x="6064200" y="49528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6597720" y="402444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7574040" y="412920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7207200" y="47242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7130880" y="592920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507000" y="528624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7697880" y="516744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7130880" y="53341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921360" y="3543480"/>
            <a:ext cx="711360" cy="7491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8" y="168"/>
                </a:moveTo>
                <a:cubicBezTo>
                  <a:pt x="16" y="96"/>
                  <a:pt x="224" y="0"/>
                  <a:pt x="296" y="24"/>
                </a:cubicBezTo>
                <a:cubicBezTo>
                  <a:pt x="368" y="48"/>
                  <a:pt x="448" y="240"/>
                  <a:pt x="440" y="312"/>
                </a:cubicBezTo>
                <a:cubicBezTo>
                  <a:pt x="432" y="384"/>
                  <a:pt x="320" y="472"/>
                  <a:pt x="248" y="456"/>
                </a:cubicBezTo>
                <a:cubicBezTo>
                  <a:pt x="176" y="440"/>
                  <a:pt x="0" y="240"/>
                  <a:pt x="8" y="16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486400" y="46483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8077320" y="48006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791320" y="44197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8305920" y="45720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914400" y="4541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, core is changed and new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 are 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854680" y="4229280"/>
            <a:ext cx="787320" cy="1904760"/>
          </a:xfrm>
          <a:custGeom>
            <a:avLst/>
            <a:gdLst/>
            <a:ahLst/>
            <a:rect l="l" t="t" r="r" b="b"/>
            <a:pathLst>
              <a:path w="496" h="1200">
                <a:moveTo>
                  <a:pt x="248" y="120"/>
                </a:moveTo>
                <a:cubicBezTo>
                  <a:pt x="328" y="0"/>
                  <a:pt x="480" y="8"/>
                  <a:pt x="488" y="168"/>
                </a:cubicBezTo>
                <a:cubicBezTo>
                  <a:pt x="496" y="328"/>
                  <a:pt x="376" y="960"/>
                  <a:pt x="296" y="1080"/>
                </a:cubicBezTo>
                <a:cubicBezTo>
                  <a:pt x="216" y="1200"/>
                  <a:pt x="16" y="1048"/>
                  <a:pt x="8" y="888"/>
                </a:cubicBezTo>
                <a:cubicBezTo>
                  <a:pt x="0" y="728"/>
                  <a:pt x="168" y="240"/>
                  <a:pt x="248" y="12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515280" y="4610160"/>
            <a:ext cx="1562040" cy="838080"/>
          </a:xfrm>
          <a:custGeom>
            <a:avLst/>
            <a:gdLst/>
            <a:ahLst/>
            <a:rect l="l" t="t" r="r" b="b"/>
            <a:pathLst>
              <a:path w="984" h="528">
                <a:moveTo>
                  <a:pt x="120" y="216"/>
                </a:moveTo>
                <a:cubicBezTo>
                  <a:pt x="0" y="296"/>
                  <a:pt x="48" y="480"/>
                  <a:pt x="120" y="504"/>
                </a:cubicBezTo>
                <a:cubicBezTo>
                  <a:pt x="192" y="528"/>
                  <a:pt x="416" y="384"/>
                  <a:pt x="552" y="360"/>
                </a:cubicBezTo>
                <a:cubicBezTo>
                  <a:pt x="688" y="336"/>
                  <a:pt x="888" y="416"/>
                  <a:pt x="936" y="360"/>
                </a:cubicBezTo>
                <a:cubicBezTo>
                  <a:pt x="984" y="304"/>
                  <a:pt x="976" y="48"/>
                  <a:pt x="840" y="24"/>
                </a:cubicBezTo>
                <a:cubicBezTo>
                  <a:pt x="704" y="0"/>
                  <a:pt x="240" y="136"/>
                  <a:pt x="120" y="216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914400" y="32050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ower level fragment F’ at node n’ joins some fragment F at node n before n sent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lower level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914400" y="45417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send n’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with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 so it joins the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– M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5040" y="22287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nected sub-tree of M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25920" y="3581280"/>
            <a:ext cx="1861920" cy="2667240"/>
            <a:chOff x="3625920" y="3581280"/>
            <a:chExt cx="1861920" cy="2667240"/>
          </a:xfrm>
        </p:grpSpPr>
        <p:sp>
          <p:nvSpPr>
            <p:cNvPr id="155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61" idx="7"/>
              <a:endCxn id="157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64" name=""/>
            <p:cNvCxnSpPr>
              <a:stCxn id="156" idx="5"/>
              <a:endCxn id="158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165" name=""/>
            <p:cNvGrpSpPr/>
            <p:nvPr/>
          </p:nvGrpSpPr>
          <p:grpSpPr>
            <a:xfrm>
              <a:off x="3777840" y="3841560"/>
              <a:ext cx="1524240" cy="2146320"/>
              <a:chOff x="3777840" y="3841560"/>
              <a:chExt cx="1524240" cy="2146320"/>
            </a:xfrm>
          </p:grpSpPr>
          <p:cxnSp>
            <p:nvCxnSpPr>
              <p:cNvPr id="166" name=""/>
              <p:cNvCxnSpPr>
                <a:stCxn id="156" idx="6"/>
                <a:endCxn id="159" idx="2"/>
              </p:cNvCxnSpPr>
              <p:nvPr/>
            </p:nvCxnSpPr>
            <p:spPr>
              <a:xfrm flipV="1">
                <a:off x="4616280" y="4799880"/>
                <a:ext cx="534240" cy="15300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67" name=""/>
              <p:cNvCxnSpPr>
                <a:stCxn id="159" idx="0"/>
                <a:endCxn id="157" idx="5"/>
              </p:cNvCxnSpPr>
              <p:nvPr/>
            </p:nvCxnSpPr>
            <p:spPr>
              <a:xfrm flipH="1" flipV="1">
                <a:off x="4952520" y="3841560"/>
                <a:ext cx="349920" cy="8071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68" name=""/>
              <p:cNvCxnSpPr>
                <a:stCxn id="156" idx="3"/>
                <a:endCxn id="162" idx="7"/>
              </p:cNvCxnSpPr>
              <p:nvPr/>
            </p:nvCxnSpPr>
            <p:spPr>
              <a:xfrm flipH="1">
                <a:off x="3885480" y="5060880"/>
                <a:ext cx="47052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69" name=""/>
              <p:cNvCxnSpPr>
                <a:stCxn id="158" idx="0"/>
                <a:endCxn id="159" idx="4"/>
              </p:cNvCxnSpPr>
              <p:nvPr/>
            </p:nvCxnSpPr>
            <p:spPr>
              <a:xfrm flipV="1">
                <a:off x="5225760" y="4952520"/>
                <a:ext cx="76680" cy="4579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70" name=""/>
              <p:cNvCxnSpPr>
                <a:stCxn id="158" idx="3"/>
                <a:endCxn id="160" idx="7"/>
              </p:cNvCxnSpPr>
              <p:nvPr/>
            </p:nvCxnSpPr>
            <p:spPr>
              <a:xfrm flipH="1">
                <a:off x="4343040" y="5670360"/>
                <a:ext cx="77544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171" name=""/>
              <p:cNvCxnSpPr>
                <a:stCxn id="162" idx="0"/>
                <a:endCxn id="161" idx="4"/>
              </p:cNvCxnSpPr>
              <p:nvPr/>
            </p:nvCxnSpPr>
            <p:spPr>
              <a:xfrm flipV="1">
                <a:off x="3777840" y="4647600"/>
                <a:ext cx="153000" cy="6865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</p:grpSp>
        <p:sp>
          <p:nvSpPr>
            <p:cNvPr id="172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340080" y="4076640"/>
            <a:ext cx="1511280" cy="1790640"/>
          </a:xfrm>
          <a:custGeom>
            <a:avLst/>
            <a:gdLst/>
            <a:ahLst/>
            <a:rect l="l" t="t" r="r" b="b"/>
            <a:pathLst>
              <a:path w="952" h="1128">
                <a:moveTo>
                  <a:pt x="200" y="72"/>
                </a:moveTo>
                <a:cubicBezTo>
                  <a:pt x="320" y="0"/>
                  <a:pt x="616" y="120"/>
                  <a:pt x="728" y="216"/>
                </a:cubicBezTo>
                <a:cubicBezTo>
                  <a:pt x="840" y="312"/>
                  <a:pt x="952" y="496"/>
                  <a:pt x="872" y="648"/>
                </a:cubicBezTo>
                <a:cubicBezTo>
                  <a:pt x="792" y="800"/>
                  <a:pt x="392" y="1128"/>
                  <a:pt x="248" y="1128"/>
                </a:cubicBezTo>
                <a:cubicBezTo>
                  <a:pt x="104" y="1128"/>
                  <a:pt x="16" y="824"/>
                  <a:pt x="8" y="648"/>
                </a:cubicBezTo>
                <a:cubicBezTo>
                  <a:pt x="0" y="472"/>
                  <a:pt x="80" y="144"/>
                  <a:pt x="200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70480" y="3390840"/>
            <a:ext cx="1193760" cy="1866960"/>
          </a:xfrm>
          <a:custGeom>
            <a:avLst/>
            <a:gdLst/>
            <a:ahLst/>
            <a:rect l="l" t="t" r="r" b="b"/>
            <a:pathLst>
              <a:path w="752" h="1176">
                <a:moveTo>
                  <a:pt x="64" y="72"/>
                </a:moveTo>
                <a:cubicBezTo>
                  <a:pt x="0" y="120"/>
                  <a:pt x="56" y="296"/>
                  <a:pt x="112" y="456"/>
                </a:cubicBezTo>
                <a:cubicBezTo>
                  <a:pt x="168" y="616"/>
                  <a:pt x="296" y="936"/>
                  <a:pt x="400" y="1032"/>
                </a:cubicBezTo>
                <a:cubicBezTo>
                  <a:pt x="504" y="1128"/>
                  <a:pt x="720" y="1176"/>
                  <a:pt x="736" y="1032"/>
                </a:cubicBezTo>
                <a:cubicBezTo>
                  <a:pt x="752" y="888"/>
                  <a:pt x="608" y="336"/>
                  <a:pt x="496" y="168"/>
                </a:cubicBezTo>
                <a:cubicBezTo>
                  <a:pt x="384" y="0"/>
                  <a:pt x="128" y="24"/>
                  <a:pt x="64" y="72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7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possible fra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257800"/>
            <a:ext cx="1676520" cy="1117440"/>
          </a:xfrm>
          <a:custGeom>
            <a:avLst/>
            <a:gdLst/>
            <a:ahLst/>
            <a:rect l="l" t="t" r="r" b="b"/>
            <a:pathLst>
              <a:path w="1056" h="704">
                <a:moveTo>
                  <a:pt x="24" y="528"/>
                </a:moveTo>
                <a:cubicBezTo>
                  <a:pt x="8" y="480"/>
                  <a:pt x="0" y="464"/>
                  <a:pt x="120" y="384"/>
                </a:cubicBezTo>
                <a:cubicBezTo>
                  <a:pt x="240" y="304"/>
                  <a:pt x="608" y="96"/>
                  <a:pt x="744" y="48"/>
                </a:cubicBezTo>
                <a:cubicBezTo>
                  <a:pt x="880" y="0"/>
                  <a:pt x="904" y="40"/>
                  <a:pt x="936" y="96"/>
                </a:cubicBezTo>
                <a:cubicBezTo>
                  <a:pt x="968" y="152"/>
                  <a:pt x="1056" y="288"/>
                  <a:pt x="936" y="384"/>
                </a:cubicBezTo>
                <a:cubicBezTo>
                  <a:pt x="816" y="480"/>
                  <a:pt x="368" y="640"/>
                  <a:pt x="216" y="672"/>
                </a:cubicBezTo>
                <a:cubicBezTo>
                  <a:pt x="64" y="704"/>
                  <a:pt x="40" y="576"/>
                  <a:pt x="24" y="5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914400" y="32050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ower level fragment F’ at node n’ joins some fragment F at node n after n sent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lower level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914400" y="454176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eans that n already found a lower edge and therefore we can send n’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with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 so i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esn’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 the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914400" y="32050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forwarding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to the leafs, it is also forwarded to any pending fragments at level L-1, as they might be delayed with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at level 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914400" y="32050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L+1 contains at least 2 fragments at level 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bound on fragment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914400" y="4187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L contains at least     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5" name=""/>
          <p:cNvGraphicFramePr/>
          <p:nvPr/>
        </p:nvGraphicFramePr>
        <p:xfrm>
          <a:off x="4538520" y="411480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41148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7" name=""/>
          <p:cNvSpPr/>
          <p:nvPr/>
        </p:nvSpPr>
        <p:spPr>
          <a:xfrm>
            <a:off x="914400" y="4673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upper bound on fragment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8" name=""/>
          <p:cNvGraphicFramePr/>
          <p:nvPr/>
        </p:nvGraphicFramePr>
        <p:xfrm>
          <a:off x="947880" y="4633920"/>
          <a:ext cx="91440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7880" y="4633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914400" y="32050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is sent on the minimal outgoing edge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MST build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914400" y="41878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 of properties 1 &amp; 2 we should obtain an M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914400" y="3205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re is a dead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ad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914400" y="368784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a fragment from the lowest level set and with minimal outgoing edge in that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914400" y="45864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/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surely will be re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914400" y="550224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ill always be a working fra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914400" y="32050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 (with corresponding 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, because each edge can be rejected only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4400" y="319572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very but the zero or last levels, each node can accept up to 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, Acce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. It can transmit up to 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(successful), Report, ChangeRoot, 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ce the number of levels is bounded by              number of such messages is at most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3105000" y="48625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48625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2" name=""/>
          <p:cNvGraphicFramePr/>
          <p:nvPr/>
        </p:nvGraphicFramePr>
        <p:xfrm>
          <a:off x="2158920" y="5289480"/>
          <a:ext cx="18795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8920" y="5289480"/>
                    <a:ext cx="1879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/>
          <p:nvPr/>
        </p:nvSpPr>
        <p:spPr>
          <a:xfrm>
            <a:off x="914400" y="31957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vel zero, each node receives at most on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ransmits at most on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t the last level a node can send at most on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, as a result at most 3N such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/>
          <p:nvPr/>
        </p:nvSpPr>
        <p:spPr>
          <a:xfrm>
            <a:off x="914400" y="31957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, the upper bound is: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905040" y="22287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2" name=""/>
          <p:cNvGraphicFramePr/>
          <p:nvPr/>
        </p:nvGraphicFramePr>
        <p:xfrm>
          <a:off x="5486400" y="3156120"/>
          <a:ext cx="198108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56120"/>
                    <a:ext cx="1981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"/>
          <p:cNvSpPr/>
          <p:nvPr/>
        </p:nvSpPr>
        <p:spPr>
          <a:xfrm>
            <a:off x="914400" y="3195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ve by induction that one needs 5lN - 3N time units for every node to reach level 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838080" y="22287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under assumption of initial awakening it is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1168560" y="2619360"/>
          <a:ext cx="13460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1936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61920" y="21812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fragment of an MST, let e be a minimum-weight outgoing edge of the fragment. Then joining e and its adjacent non-fragment node to the fragment yields another fragment of an M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340080" y="3581280"/>
            <a:ext cx="2147760" cy="2667240"/>
            <a:chOff x="3340080" y="3581280"/>
            <a:chExt cx="2147760" cy="2667240"/>
          </a:xfrm>
        </p:grpSpPr>
        <p:grpSp>
          <p:nvGrpSpPr>
            <p:cNvPr id="187" name=""/>
            <p:cNvGrpSpPr/>
            <p:nvPr/>
          </p:nvGrpSpPr>
          <p:grpSpPr>
            <a:xfrm>
              <a:off x="3625920" y="3581280"/>
              <a:ext cx="1861920" cy="2667240"/>
              <a:chOff x="3625920" y="3581280"/>
              <a:chExt cx="1861920" cy="2667240"/>
            </a:xfrm>
          </p:grpSpPr>
          <p:sp>
            <p:nvSpPr>
              <p:cNvPr id="188" name=""/>
              <p:cNvSpPr/>
              <p:nvPr/>
            </p:nvSpPr>
            <p:spPr>
              <a:xfrm>
                <a:off x="5259240" y="5014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11720" y="4800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92600" y="35812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73480" y="541008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49800" y="4648320"/>
                <a:ext cx="30492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83120" y="5943600"/>
                <a:ext cx="30456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78200" y="4343400"/>
                <a:ext cx="304920" cy="30492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25920" y="5334120"/>
                <a:ext cx="304560" cy="304560"/>
              </a:xfrm>
              <a:prstGeom prst="ellipse">
                <a:avLst/>
              </a:prstGeom>
              <a:solidFill>
                <a:srgbClr val="39858b">
                  <a:alpha val="60000"/>
                </a:srgbClr>
              </a:solidFill>
              <a:ln w="9360">
                <a:solidFill>
                  <a:srgbClr val="3985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6" name=""/>
              <p:cNvCxnSpPr>
                <a:stCxn id="194" idx="7"/>
                <a:endCxn id="190" idx="3"/>
              </p:cNvCxnSpPr>
              <p:nvPr/>
            </p:nvCxnSpPr>
            <p:spPr>
              <a:xfrm flipV="1">
                <a:off x="4038120" y="3841560"/>
                <a:ext cx="699480" cy="546480"/>
              </a:xfrm>
              <a:prstGeom prst="straightConnector1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197" name=""/>
              <p:cNvCxnSpPr>
                <a:stCxn id="189" idx="5"/>
                <a:endCxn id="191" idx="1"/>
              </p:cNvCxnSpPr>
              <p:nvPr/>
            </p:nvCxnSpPr>
            <p:spPr>
              <a:xfrm>
                <a:off x="4571640" y="5060880"/>
                <a:ext cx="546480" cy="394560"/>
              </a:xfrm>
              <a:prstGeom prst="straightConnector1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cxnSp>
          <p:grpSp>
            <p:nvGrpSpPr>
              <p:cNvPr id="198" name=""/>
              <p:cNvGrpSpPr/>
              <p:nvPr/>
            </p:nvGrpSpPr>
            <p:grpSpPr>
              <a:xfrm>
                <a:off x="3777840" y="3841560"/>
                <a:ext cx="1524240" cy="2146320"/>
                <a:chOff x="3777840" y="3841560"/>
                <a:chExt cx="1524240" cy="2146320"/>
              </a:xfrm>
            </p:grpSpPr>
            <p:cxnSp>
              <p:nvCxnSpPr>
                <p:cNvPr id="199" name=""/>
                <p:cNvCxnSpPr>
                  <a:stCxn id="189" idx="6"/>
                  <a:endCxn id="192" idx="2"/>
                </p:cNvCxnSpPr>
                <p:nvPr/>
              </p:nvCxnSpPr>
              <p:spPr>
                <a:xfrm flipV="1">
                  <a:off x="4616280" y="4799880"/>
                  <a:ext cx="534240" cy="15300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00" name=""/>
                <p:cNvCxnSpPr>
                  <a:stCxn id="192" idx="0"/>
                  <a:endCxn id="190" idx="5"/>
                </p:cNvCxnSpPr>
                <p:nvPr/>
              </p:nvCxnSpPr>
              <p:spPr>
                <a:xfrm flipH="1" flipV="1">
                  <a:off x="4952520" y="3841560"/>
                  <a:ext cx="349920" cy="8071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01" name=""/>
                <p:cNvCxnSpPr>
                  <a:stCxn id="189" idx="3"/>
                  <a:endCxn id="195" idx="7"/>
                </p:cNvCxnSpPr>
                <p:nvPr/>
              </p:nvCxnSpPr>
              <p:spPr>
                <a:xfrm flipH="1">
                  <a:off x="3885480" y="5060880"/>
                  <a:ext cx="470520" cy="31788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02" name=""/>
                <p:cNvCxnSpPr>
                  <a:stCxn id="191" idx="0"/>
                  <a:endCxn id="192" idx="4"/>
                </p:cNvCxnSpPr>
                <p:nvPr/>
              </p:nvCxnSpPr>
              <p:spPr>
                <a:xfrm flipV="1">
                  <a:off x="5225760" y="4952520"/>
                  <a:ext cx="76680" cy="4579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03" name=""/>
                <p:cNvCxnSpPr>
                  <a:stCxn id="191" idx="3"/>
                  <a:endCxn id="193" idx="7"/>
                </p:cNvCxnSpPr>
                <p:nvPr/>
              </p:nvCxnSpPr>
              <p:spPr>
                <a:xfrm flipH="1">
                  <a:off x="4343040" y="5670360"/>
                  <a:ext cx="775440" cy="31788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  <p:cxnSp>
              <p:nvCxnSpPr>
                <p:cNvPr id="204" name=""/>
                <p:cNvCxnSpPr>
                  <a:stCxn id="195" idx="0"/>
                  <a:endCxn id="194" idx="4"/>
                </p:cNvCxnSpPr>
                <p:nvPr/>
              </p:nvCxnSpPr>
              <p:spPr>
                <a:xfrm flipV="1">
                  <a:off x="3777840" y="4647600"/>
                  <a:ext cx="153000" cy="686520"/>
                </a:xfrm>
                <a:prstGeom prst="straightConnector1">
                  <a:avLst/>
                </a:prstGeom>
                <a:ln w="25560">
                  <a:solidFill>
                    <a:srgbClr val="800000"/>
                  </a:solidFill>
                  <a:miter/>
                </a:ln>
              </p:spPr>
            </p:cxnSp>
          </p:grpSp>
          <p:sp>
            <p:nvSpPr>
              <p:cNvPr id="205" name=""/>
              <p:cNvSpPr/>
              <p:nvPr/>
            </p:nvSpPr>
            <p:spPr>
              <a:xfrm>
                <a:off x="3625920" y="48006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59080" y="387180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5400" y="397656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68920" y="457200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92600" y="57769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68720" y="513396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92600" y="5181480"/>
                <a:ext cx="228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340080" y="4076640"/>
              <a:ext cx="1511280" cy="1790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9200" y="4038480"/>
            <a:ext cx="1371600" cy="685800"/>
            <a:chOff x="5029200" y="4038480"/>
            <a:chExt cx="1371600" cy="685800"/>
          </a:xfrm>
        </p:grpSpPr>
        <p:sp>
          <p:nvSpPr>
            <p:cNvPr id="214" name=""/>
            <p:cNvSpPr/>
            <p:nvPr/>
          </p:nvSpPr>
          <p:spPr>
            <a:xfrm>
              <a:off x="6019920" y="4038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42670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0"/>
                  </a:moveTo>
                  <a:cubicBezTo>
                    <a:pt x="460" y="0"/>
                    <a:pt x="296" y="0"/>
                    <a:pt x="192" y="48"/>
                  </a:cubicBezTo>
                  <a:cubicBezTo>
                    <a:pt x="88" y="96"/>
                    <a:pt x="32" y="248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"/>
          <p:cNvSpPr/>
          <p:nvPr/>
        </p:nvSpPr>
        <p:spPr>
          <a:xfrm>
            <a:off x="914400" y="3195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1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ch node is awakened and send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. By time 2N all nodes should be at level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838080" y="22287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under assumption of initial awakening it is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4" name=""/>
          <p:cNvGraphicFramePr/>
          <p:nvPr/>
        </p:nvGraphicFramePr>
        <p:xfrm>
          <a:off x="1168560" y="2619360"/>
          <a:ext cx="13460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1936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"/>
          <p:cNvSpPr/>
          <p:nvPr/>
        </p:nvSpPr>
        <p:spPr>
          <a:xfrm>
            <a:off x="914400" y="3195720"/>
            <a:ext cx="777240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level 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ach node can send at most 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 which will be answered before time 51N - N . The propagation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Ro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 can take at most 3N units, so that by time 5 ( l + 1)N - 3N all nodes are at level l 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838080" y="22287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under assumption of initial awakening it is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0" name=""/>
          <p:cNvGraphicFramePr/>
          <p:nvPr/>
        </p:nvGraphicFramePr>
        <p:xfrm>
          <a:off x="1168560" y="2619360"/>
          <a:ext cx="13460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1936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"/>
          <p:cNvSpPr/>
          <p:nvPr/>
        </p:nvSpPr>
        <p:spPr>
          <a:xfrm>
            <a:off x="914400" y="31957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highest level onl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, Rejec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838080" y="22287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under assumption of initial awakening it is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6" name=""/>
          <p:cNvGraphicFramePr/>
          <p:nvPr/>
        </p:nvGraphicFramePr>
        <p:xfrm>
          <a:off x="1168560" y="2619360"/>
          <a:ext cx="13460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1936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914400" y="31957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 we have the algorithm complete under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time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858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1" name=""/>
          <p:cNvGraphicFramePr/>
          <p:nvPr/>
        </p:nvGraphicFramePr>
        <p:xfrm>
          <a:off x="1882800" y="3581280"/>
          <a:ext cx="13460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358128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3" name=""/>
          <p:cNvSpPr/>
          <p:nvPr/>
        </p:nvSpPr>
        <p:spPr>
          <a:xfrm>
            <a:off x="838080" y="22287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(under assumption of initial awakening it is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4" name=""/>
          <p:cNvGraphicFramePr/>
          <p:nvPr/>
        </p:nvGraphicFramePr>
        <p:xfrm>
          <a:off x="1168560" y="2619360"/>
          <a:ext cx="134604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8560" y="2619360"/>
                    <a:ext cx="1346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1600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 Proper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1812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fragment of an MST, let e be a minimum-weight outgoing edge of the fragment. Then joining e and its adjacent non-fragment node to the fragment yields another fragment of an M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40080" y="3581280"/>
            <a:ext cx="2147760" cy="2667240"/>
            <a:chOff x="3340080" y="3581280"/>
            <a:chExt cx="2147760" cy="2667240"/>
          </a:xfrm>
        </p:grpSpPr>
        <p:sp>
          <p:nvSpPr>
            <p:cNvPr id="220" name=""/>
            <p:cNvSpPr/>
            <p:nvPr/>
          </p:nvSpPr>
          <p:spPr>
            <a:xfrm>
              <a:off x="5259240" y="5014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11720" y="4800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92600" y="35812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3480" y="541008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49800" y="4648320"/>
              <a:ext cx="30492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3120" y="5943600"/>
              <a:ext cx="30456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8200" y="4343400"/>
              <a:ext cx="304920" cy="30492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25920" y="5334120"/>
              <a:ext cx="304560" cy="304560"/>
            </a:xfrm>
            <a:prstGeom prst="ellipse">
              <a:avLst/>
            </a:prstGeom>
            <a:solidFill>
              <a:srgbClr val="39858b">
                <a:alpha val="60000"/>
              </a:srgbClr>
            </a:solidFill>
            <a:ln w="9360">
              <a:solidFill>
                <a:srgbClr val="398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26" idx="7"/>
              <a:endCxn id="222" idx="3"/>
            </p:cNvCxnSpPr>
            <p:nvPr/>
          </p:nvCxnSpPr>
          <p:spPr>
            <a:xfrm flipV="1">
              <a:off x="4038120" y="3841560"/>
              <a:ext cx="699480" cy="5464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29" name=""/>
            <p:cNvCxnSpPr>
              <a:stCxn id="221" idx="5"/>
              <a:endCxn id="223" idx="1"/>
            </p:cNvCxnSpPr>
            <p:nvPr/>
          </p:nvCxnSpPr>
          <p:spPr>
            <a:xfrm>
              <a:off x="4571640" y="5060880"/>
              <a:ext cx="546480" cy="39456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30" name=""/>
            <p:cNvGrpSpPr/>
            <p:nvPr/>
          </p:nvGrpSpPr>
          <p:grpSpPr>
            <a:xfrm>
              <a:off x="3777840" y="3841560"/>
              <a:ext cx="1524240" cy="2146320"/>
              <a:chOff x="3777840" y="3841560"/>
              <a:chExt cx="1524240" cy="2146320"/>
            </a:xfrm>
          </p:grpSpPr>
          <p:cxnSp>
            <p:nvCxnSpPr>
              <p:cNvPr id="231" name=""/>
              <p:cNvCxnSpPr>
                <a:stCxn id="221" idx="6"/>
                <a:endCxn id="224" idx="2"/>
              </p:cNvCxnSpPr>
              <p:nvPr/>
            </p:nvCxnSpPr>
            <p:spPr>
              <a:xfrm flipV="1">
                <a:off x="4616280" y="4799880"/>
                <a:ext cx="534240" cy="15300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32" name=""/>
              <p:cNvCxnSpPr>
                <a:stCxn id="224" idx="0"/>
                <a:endCxn id="222" idx="5"/>
              </p:cNvCxnSpPr>
              <p:nvPr/>
            </p:nvCxnSpPr>
            <p:spPr>
              <a:xfrm flipH="1" flipV="1">
                <a:off x="4952520" y="3841560"/>
                <a:ext cx="349920" cy="8071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33" name=""/>
              <p:cNvCxnSpPr>
                <a:stCxn id="221" idx="3"/>
                <a:endCxn id="227" idx="7"/>
              </p:cNvCxnSpPr>
              <p:nvPr/>
            </p:nvCxnSpPr>
            <p:spPr>
              <a:xfrm flipH="1">
                <a:off x="3885480" y="5060880"/>
                <a:ext cx="47052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34" name=""/>
              <p:cNvCxnSpPr>
                <a:stCxn id="223" idx="0"/>
                <a:endCxn id="224" idx="4"/>
              </p:cNvCxnSpPr>
              <p:nvPr/>
            </p:nvCxnSpPr>
            <p:spPr>
              <a:xfrm flipV="1">
                <a:off x="5225760" y="4952520"/>
                <a:ext cx="76680" cy="4579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35" name=""/>
              <p:cNvCxnSpPr>
                <a:stCxn id="223" idx="3"/>
                <a:endCxn id="225" idx="7"/>
              </p:cNvCxnSpPr>
              <p:nvPr/>
            </p:nvCxnSpPr>
            <p:spPr>
              <a:xfrm flipH="1">
                <a:off x="4343040" y="5670360"/>
                <a:ext cx="775440" cy="31788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  <p:cxnSp>
            <p:nvCxnSpPr>
              <p:cNvPr id="236" name=""/>
              <p:cNvCxnSpPr>
                <a:stCxn id="227" idx="0"/>
                <a:endCxn id="226" idx="4"/>
              </p:cNvCxnSpPr>
              <p:nvPr/>
            </p:nvCxnSpPr>
            <p:spPr>
              <a:xfrm flipV="1">
                <a:off x="3777840" y="4647600"/>
                <a:ext cx="153000" cy="686520"/>
              </a:xfrm>
              <a:prstGeom prst="straightConnector1">
                <a:avLst/>
              </a:prstGeom>
              <a:ln w="25560">
                <a:solidFill>
                  <a:srgbClr val="800000"/>
                </a:solidFill>
                <a:miter/>
              </a:ln>
            </p:spPr>
          </p:cxnSp>
        </p:grpSp>
        <p:sp>
          <p:nvSpPr>
            <p:cNvPr id="237" name=""/>
            <p:cNvSpPr/>
            <p:nvPr/>
          </p:nvSpPr>
          <p:spPr>
            <a:xfrm>
              <a:off x="3625920" y="48006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59080" y="387180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5400" y="397656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8920" y="457200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92600" y="57769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720" y="513396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92600" y="5181480"/>
              <a:ext cx="228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0080" y="4076640"/>
              <a:ext cx="1511280" cy="1790640"/>
            </a:xfrm>
            <a:custGeom>
              <a:avLst/>
              <a:gdLst/>
              <a:ahLst/>
              <a:rect l="l" t="t" r="r" b="b"/>
              <a:pathLst>
                <a:path w="952" h="1128">
                  <a:moveTo>
                    <a:pt x="200" y="72"/>
                  </a:moveTo>
                  <a:cubicBezTo>
                    <a:pt x="320" y="0"/>
                    <a:pt x="616" y="120"/>
                    <a:pt x="728" y="216"/>
                  </a:cubicBezTo>
                  <a:cubicBezTo>
                    <a:pt x="840" y="312"/>
                    <a:pt x="952" y="496"/>
                    <a:pt x="872" y="648"/>
                  </a:cubicBezTo>
                  <a:cubicBezTo>
                    <a:pt x="792" y="800"/>
                    <a:pt x="392" y="1128"/>
                    <a:pt x="248" y="1128"/>
                  </a:cubicBezTo>
                  <a:cubicBezTo>
                    <a:pt x="104" y="1128"/>
                    <a:pt x="16" y="824"/>
                    <a:pt x="8" y="648"/>
                  </a:cubicBezTo>
                  <a:cubicBezTo>
                    <a:pt x="0" y="472"/>
                    <a:pt x="80" y="144"/>
                    <a:pt x="200" y="72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29200" y="4038480"/>
            <a:ext cx="1371600" cy="685800"/>
            <a:chOff x="5029200" y="4038480"/>
            <a:chExt cx="1371600" cy="685800"/>
          </a:xfrm>
        </p:grpSpPr>
        <p:sp>
          <p:nvSpPr>
            <p:cNvPr id="246" name=""/>
            <p:cNvSpPr/>
            <p:nvPr/>
          </p:nvSpPr>
          <p:spPr>
            <a:xfrm>
              <a:off x="6019920" y="4038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9200" y="42670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0"/>
                  </a:moveTo>
                  <a:cubicBezTo>
                    <a:pt x="460" y="0"/>
                    <a:pt x="296" y="0"/>
                    <a:pt x="192" y="48"/>
                  </a:cubicBezTo>
                  <a:cubicBezTo>
                    <a:pt x="88" y="96"/>
                    <a:pt x="32" y="248"/>
                    <a:pt x="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3733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7:48:12Z</dcterms:created>
  <dc:creator>חנן שפונגין</dc:creator>
  <dc:description/>
  <dc:language>en-US</dc:language>
  <cp:lastModifiedBy>חנן שפונגין</cp:lastModifiedBy>
  <dcterms:modified xsi:type="dcterms:W3CDTF">2005-01-18T15:45:26Z</dcterms:modified>
  <cp:revision>306</cp:revision>
  <dc:subject/>
  <dc:title>A Distributed Algorithm for Minimum-Weight Spanning Trees</dc:title>
</cp:coreProperties>
</file>